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77E6-F635-471D-9DEB-31B887427907}" type="slidenum">
              <a:rPr b="0" lang="it-IT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593E-716B-4E12-9BBC-E0ED049C6368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6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5CEB-0897-41CC-A3D4-037FD26B6AFA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847C-11FB-4E73-9D24-7FF79EEE386D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C5E2-FA08-4AD0-89AB-46559FD3C907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5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F862-3567-4619-80EC-2139D1E13C7C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8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10B9-46B7-4374-84DC-2887E9C6DA1D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1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0079-F114-4BD2-A264-DF8A16F4D42D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4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68B4-2086-4742-9693-52FFF139B7BF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3CE6-AE0C-4838-B631-D5EF16F69162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DBF5-5601-43E4-ADAC-1A79EEF7B94F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21D4-4815-41EF-8464-1B521D695038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1732-C54D-4F11-B9F0-026CFFC9A8FC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6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B668-73B6-4959-B34B-D1E8ED867669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A9CA-3BD1-404B-8CCC-1D1774EEC6E5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F106-CC33-4030-8234-9C4D2639D4BC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5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29FD-2DC1-44CE-B7F1-13EE0C10C5C2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C86D-D383-41F3-957B-A71E9055E849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DADF-945C-462B-8245-FEC464D5D6EE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AB23-7CD1-4C65-BF43-485F92AFEA0D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7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CB5D-E248-42F4-B1D0-8FC117B68B49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1EDA-1A0D-4819-9776-4D060B5C6E2C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C8CE-A062-498C-B5C8-825DD0C31DC0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8B16-7CF2-44E7-8600-A456E65A877E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6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6016-0168-4784-B736-1F6509EF0AEA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2422-F335-42A5-B8ED-21F9238D24DC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7128-088C-44AD-9018-513453E8ACB5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5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014C-C44A-416A-AABD-28EDB7620AC3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8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2B93-A7A5-41B5-B5BF-6F4EB315C518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1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4E35-231A-4E79-82EF-FA5B551C90FC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4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1B3A-84D0-45FD-BCD9-9898128CEC99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DF9C-0189-430A-A06E-F95A662E408C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65FD-82F9-402B-BBD6-44A71F0F3DD9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AE57-9C35-4338-8A28-21CF9F980535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1529-182C-4A0B-A651-2E8ACB4A69E9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6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5CC3-8FCB-4A3B-AD08-A9F0E1DD28C3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ABB0-573D-445B-8B19-E7E45325E451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F568-669D-40B5-95F3-95167BBBCC4F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ED74-9582-4C79-ABE5-F2AAA50C53C4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DE9D-3365-4B8A-880D-78D9D583DA88}" type="slidenum">
              <a:rPr b="0" lang="it-IT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5" name="Text Box 2"/>
          <p:cNvSpPr/>
          <p:nvPr/>
        </p:nvSpPr>
        <p:spPr>
          <a:xfrm>
            <a:off x="2124000" y="754200"/>
            <a:ext cx="254952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712A-702A-435B-8E16-5014305956A9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A168-61C4-4FD3-A1F6-CCE796C3DCFC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5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ACB4-4D95-4180-A56E-0D70A9EC2008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8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5E72-4B7C-4EF2-9FD3-E9BCD5916C6B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D0BC-5DD9-4339-BFD1-7EA8E8B40453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9C07-667D-485B-B78A-3279CD835BF2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C369-1AD7-4A5F-B72E-FE16B395AF1F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E57E-8192-4419-9497-36E76EE17FA4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9D4D-FF5C-4C3D-AE82-0CBBDE606076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0DE9-053D-453C-9321-2D4CF1515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49DE-61EF-4E3C-93C3-BB2935F2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697D-D46F-41F9-B2DE-E9BEDFDD6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E980-9F77-48A1-AC5E-376CD9326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B77E-2DA7-442C-89CD-E22A558BD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2BBD-DCAF-40B3-B0A1-70768803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4BED-9C5D-496A-8310-AC53DBA7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9975-5CB9-407F-BDF7-A0AA2365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D22D-234A-4A9E-A318-2A173B70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0A17-20F1-4C0E-BB04-FBAB4C0B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E33D-46C8-41E9-B5ED-1D055492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FC10-6B1F-4041-BEF9-3A3EB711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1861-20B9-44CF-B365-1D2CFD9E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CAA3-1DE2-4374-B6CA-DFE455C7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DA42-C4B1-4C6E-977C-2EDA1B3E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3E54-62AC-4C6D-AA4F-E6C05D553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95F7-8044-4A93-A7AF-D5F1E9B8C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5B3A-3CDD-4D6C-B0CA-A104BF83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440E-9E4A-412F-95BA-877AC821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115F-C3CE-4921-BD87-9DA66C93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9B10-5F12-4460-8954-DC622D72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E81F-63F2-410B-8AB3-D5523A99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443A-B6E6-4A53-969D-C0091234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119D-BD7E-4ECE-B6EB-AAF6946E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505F-7778-4979-BE2F-30DDF91E9A6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1027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1028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1029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1030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1031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1032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1033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34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35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036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037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038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039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040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041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042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043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044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1045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1046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1047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1048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1049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050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1051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1052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1053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1054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1055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1056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1057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1058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1059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1060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1061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1062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1063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1064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065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1066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1067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1068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1069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1070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1071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1072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1073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1074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1075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1076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1077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1078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1079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1080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1081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1082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1083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1084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1085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108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1087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1088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1089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1090"/>
              <p:cNvSpPr/>
              <p:nvPr/>
            </p:nvSpPr>
            <p:spPr>
              <a:xfrm rot="5400000">
                <a:off x="8090640" y="53143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1638-3698-40CF-BABA-AC40E5903363}" type="slidenum"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09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9AF3-33F7-4182-98E1-0443A24B6045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PAS </a:t>
            </a:r>
            <a:r>
              <a:rPr b="0" i="1" lang="it-IT" sz="2300" spc="-1" strike="noStrike">
                <a:solidFill>
                  <a:srgbClr val="40458c"/>
                </a:solidFill>
                <a:latin typeface="Times New Roman"/>
              </a:rPr>
              <a:t>–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 Univ. di Pisa</a:t>
            </a:r>
            <a:br>
              <a:rPr sz="2300"/>
            </a:b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Corso di Didattica Generale e Pedagogia Sperimentale</a:t>
            </a:r>
            <a:br>
              <a:rPr sz="2000"/>
            </a:b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.A. 2013/2014</a:t>
            </a:r>
            <a:br>
              <a:rPr sz="2300"/>
            </a:br>
            <a:br>
              <a:rPr sz="2300"/>
            </a:b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Gli ordinamenti:</a:t>
            </a:r>
            <a:br>
              <a:rPr sz="4400"/>
            </a:br>
            <a:r>
              <a:rPr b="0" lang="it-IT" sz="2700" spc="-1" strike="noStrike">
                <a:solidFill>
                  <a:srgbClr val="4b34f4"/>
                </a:solidFill>
                <a:latin typeface="Tahoma"/>
              </a:rPr>
              <a:t>quadro normativo di riferimento</a:t>
            </a:r>
            <a:r>
              <a:rPr b="0" lang="it-IT" sz="27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27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838080" y="330948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40458c"/>
                </a:solidFill>
                <a:latin typeface="Tahoma"/>
              </a:rPr>
              <a:t>Il sistema educativo di istruzione e formazio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40458c"/>
                </a:solidFill>
                <a:latin typeface="Tahoma"/>
              </a:rPr>
              <a:t>Davide Capperucc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40458c"/>
                </a:solidFill>
                <a:uFillTx/>
                <a:latin typeface="Tahoma"/>
              </a:rPr>
              <a:t>Scuola secondaria di I grado</a:t>
            </a:r>
            <a:br>
              <a:rPr sz="60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38080" y="149976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Nel tempo prolungato il monte ore e' determinato mediamente in 36 ore settimanali, elevabili fino a 40, comprensive delle ore destinate agli insegnamenti e alle attivita' e al tempo dedicato alla mens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Le classi a «tempo prolungato» sono autorizzate nei limiti della dotazione organica assegnata a ciascuna provinci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65F7-6497-459B-B757-B7BEB9E17F62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40458c"/>
                </a:solidFill>
                <a:latin typeface="Tahoma"/>
              </a:rPr>
              <a:t>Corsi ad indirizzo musical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I corsi ad indirizzo musicale si svolgono oltre l'orario obbligatorio delle lezion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Valorizzazione dell'apprendimento pratico, anche con l'ausilio di laboratori musicali, nei limiti delle risorse esistenti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8B69-A684-4E2D-A4B9-E9ECD2668E39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nglese potenzia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838080" y="1643040"/>
            <a:ext cx="777240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A decorrere dall'anno scolastico 2009/2010, a richiesta delle famiglie e compatibilmente con le disponibilita' di organico e l'assenza di esubero dei docenti della seconda lingua comunitaria, e‘ introdotto l'insegnamento dell'inglese potenziato anche utilizzando le 2 ore di insegnamento della seconda lingua comunitari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AB27-D163-417F-A4AC-A57A9773E8AC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7030a0"/>
                </a:solidFill>
                <a:latin typeface="Tahoma"/>
              </a:rPr>
              <a:t>Seconda lingua comunitaria per Italiano L2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Le ore della seconda lingua comunitaria sono utilizzate anche per potenziare l'insegnamento della lingua italiana per gli alunni stranieri non in possesso delle necessarie conoscenze e competenze nella medesima lingua italiana nel rispetto dell'autonomia delle scuo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D2CE-48ED-4F37-8108-7BC9D4E465AE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500A-A26D-45A5-89B9-16452A70BAA4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Riordino secondaria II grado: </a:t>
            </a:r>
            <a:br>
              <a:rPr sz="3100"/>
            </a:b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autonomia - flessibilit</a:t>
            </a:r>
            <a:r>
              <a:rPr b="0" lang="it-IT" sz="3100" spc="-1" strike="noStrike">
                <a:solidFill>
                  <a:srgbClr val="660066"/>
                </a:solidFill>
                <a:latin typeface="Times New Roman"/>
              </a:rPr>
              <a:t>à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 - quote</a:t>
            </a:r>
            <a:br>
              <a:rPr sz="3100"/>
            </a:br>
            <a:endParaRPr b="0" lang="en-US" sz="3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55640" y="1500120"/>
            <a:ext cx="7696080" cy="45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40458c"/>
                </a:solidFill>
                <a:latin typeface="Tahoma"/>
              </a:rPr>
              <a:t>Istituti tecnici e professionali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Quota di autonomia</a:t>
            </a:r>
            <a:r>
              <a:rPr b="1" lang="it-IT" sz="2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20% dei curricoli (per tutto il quinquennio) per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 potenziare gli insegnamenti obbligatori per tutti gli student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 attivare ulteriori insegnament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Vincoli: Contingente di organico assegnato annualment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Calcolo su orario complessivo delle lezioni del primo bienni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Calcolo su orario complessivo delle lezioni del successivo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trienni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Ciascuna disciplina non può essere decurtata per pi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ù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del 20%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previsto dai quadri orario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84E4-B994-4B35-BA07-0E9462EF39EB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Con il riordino: autonomia </a:t>
            </a:r>
            <a:r>
              <a:rPr b="0" lang="it-IT" sz="3100" spc="-1" strike="noStrike">
                <a:solidFill>
                  <a:srgbClr val="660066"/>
                </a:solidFill>
                <a:latin typeface="Times New Roman"/>
              </a:rPr>
              <a:t>–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 flessibilit</a:t>
            </a:r>
            <a:r>
              <a:rPr b="0" lang="it-IT" sz="3100" spc="-1" strike="noStrike">
                <a:solidFill>
                  <a:srgbClr val="660066"/>
                </a:solidFill>
                <a:latin typeface="Times New Roman"/>
              </a:rPr>
              <a:t>à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 - quote</a:t>
            </a:r>
            <a:br>
              <a:rPr sz="3100"/>
            </a:br>
            <a:endParaRPr b="0" lang="en-US" sz="3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643040"/>
            <a:ext cx="777240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Lice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Quota dei piani di studio rimessa alle singole istituzioni scolastich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Fino al</a:t>
            </a: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Tahoma"/>
              </a:rPr>
              <a:t>20%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del monte ore complessivo nel primo biennio,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Fino al </a:t>
            </a:r>
            <a:r>
              <a:rPr b="1" lang="it-IT" sz="1600" spc="-1" strike="noStrike">
                <a:solidFill>
                  <a:srgbClr val="ff0000"/>
                </a:solidFill>
                <a:latin typeface="Tahoma"/>
              </a:rPr>
              <a:t>30%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nel secondo biennio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Fino </a:t>
            </a:r>
            <a:r>
              <a:rPr b="1" lang="it-IT" sz="1600" spc="-1" strike="noStrike">
                <a:solidFill>
                  <a:srgbClr val="ff0000"/>
                </a:solidFill>
                <a:latin typeface="Tahoma"/>
              </a:rPr>
              <a:t>20%</a:t>
            </a: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nel quinto ann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Vincoli: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- contingente di organico ad esse annualmente assegnat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- richieste degli studenti e delle loro famigli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- orario previsto dal piano di studio di ciascuna disciplina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non può essere ridotto in misura  superiore a 1/3 nell'arco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dei cinque anni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- non possono essere soppresse le discipline previste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nell'ultimo anno di corso nei piani di studi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9D64-FE19-4125-868D-E12443181084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Con il riordino: autonomia</a:t>
            </a:r>
            <a:r>
              <a:rPr b="0" lang="it-IT" sz="3100" spc="-1" strike="noStrike">
                <a:solidFill>
                  <a:srgbClr val="660066"/>
                </a:solidFill>
                <a:latin typeface="Times New Roman"/>
              </a:rPr>
              <a:t>–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flessibilit</a:t>
            </a:r>
            <a:r>
              <a:rPr b="0" lang="it-IT" sz="3100" spc="-1" strike="noStrike">
                <a:solidFill>
                  <a:srgbClr val="660066"/>
                </a:solidFill>
                <a:latin typeface="Times New Roman"/>
              </a:rPr>
              <a:t>à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 - 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quote</a:t>
            </a:r>
            <a:br>
              <a:rPr sz="3100"/>
            </a:br>
            <a:endParaRPr b="0" lang="en-US" sz="3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7896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Spazi di flessibilit</a:t>
            </a:r>
            <a:r>
              <a:rPr b="1" lang="it-IT" sz="1500" spc="-1" strike="noStrike">
                <a:solidFill>
                  <a:srgbClr val="40458c"/>
                </a:solidFill>
                <a:latin typeface="Times New Roman"/>
              </a:rPr>
              <a:t>à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Finalit</a:t>
            </a:r>
            <a:r>
              <a:rPr b="0" lang="it-IT" sz="1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- possibilit</a:t>
            </a:r>
            <a:r>
              <a:rPr b="0" lang="it-IT" sz="1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 di articolare in </a:t>
            </a: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opzioni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 le aree di indirizzo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- corrispondere alle esigenze del territorio e ai fabbisogni formativi espressi dal mondo del lavoro e delle professioni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Consistenza: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istituti tecnici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: 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con riferimento all'orario annuale delle lezioni: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entro il 30% nel secondo biennio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entro il 35% nell'ultimo anno;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Istituti professionali: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a) 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con riferimento all'orario annuale delle lezioni,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entro il 35% nel secondo biennio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entro il 40% nell'ultimo anno;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b) 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nel primo biennio entro il 25% dell'orario annuale delle lezioni per svolgere un ruolo integrativo e complementare rispetto al sistema dell'istruzione e della formazione professionale regionale.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Nei regolamenti sono previsti elenchi nazionali per l</a:t>
            </a:r>
            <a:r>
              <a:rPr b="0" lang="it-IT" sz="15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attivazione di opzioni.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3080-4F3E-4EF1-8039-2248906B9067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European Qualifications Framework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Cornice europea di riferimento ad otto livelli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descritti in termini di competenze (non di titoli)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La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Raccomandazione del Parlamento e del Consiglio Europeo del 23 aprile 2008 relativa a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dozione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EQF a livello comunitario, stabilisce che entro il 2010 i paesi membri dovranno rapportare i propri sistemi nazionali di qualificazione a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EQF,ed entro il 2012 dovranno indicare, nei singoli certificati di qualifica, un riferimento al livello corrispondente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EQF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6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700" spc="-1" strike="noStrike">
                <a:solidFill>
                  <a:srgbClr val="40458c"/>
                </a:solidFill>
                <a:latin typeface="Tahoma"/>
              </a:rPr>
              <a:t>per quanto riguarda l</a:t>
            </a:r>
            <a:r>
              <a:rPr b="0" i="1" lang="it-IT" sz="17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1700" spc="-1" strike="noStrike">
                <a:solidFill>
                  <a:srgbClr val="40458c"/>
                </a:solidFill>
                <a:latin typeface="Tahoma"/>
              </a:rPr>
              <a:t>ordinamento italiano: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-446040">
              <a:lnSpc>
                <a:spcPct val="80000"/>
              </a:lnSpc>
              <a:spcBef>
                <a:spcPts val="425"/>
              </a:spcBef>
              <a:buSzPct val="11309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EQF1 = diploma del 1° Ciclo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-446040">
              <a:lnSpc>
                <a:spcPct val="80000"/>
              </a:lnSpc>
              <a:spcBef>
                <a:spcPts val="425"/>
              </a:spcBef>
              <a:buSzPct val="11309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EQF2 = obbligo di istruzione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-446040">
              <a:lnSpc>
                <a:spcPct val="80000"/>
              </a:lnSpc>
              <a:spcBef>
                <a:spcPts val="425"/>
              </a:spcBef>
              <a:buSzPct val="11309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EQF3 = qualifica professionale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-446040">
              <a:lnSpc>
                <a:spcPct val="80000"/>
              </a:lnSpc>
              <a:spcBef>
                <a:spcPts val="425"/>
              </a:spcBef>
              <a:buSzPct val="11309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EQF4 = diploma del 2° Ciclo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4" marL="1954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40458c"/>
                </a:solidFill>
                <a:latin typeface="Tahoma"/>
              </a:rPr>
              <a:t>vedi DM 139/2007 (allegato tecnico)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40458c"/>
                </a:solidFill>
                <a:latin typeface="Tahoma"/>
              </a:rPr>
              <a:t>DPR n. 122 del 22 giugno 2009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44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BB1D-C188-450D-8DEC-DC58E85926E0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Strumenti per le innovazioni: i dipartiment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3000" spc="-1" strike="noStrike">
                <a:solidFill>
                  <a:srgbClr val="40458c"/>
                </a:solidFill>
                <a:latin typeface="Times New Roman"/>
              </a:rPr>
              <a:t>(si) </a:t>
            </a:r>
            <a:r>
              <a:rPr b="0" i="1" lang="it-IT" sz="3000" spc="-1" strike="noStrike">
                <a:solidFill>
                  <a:srgbClr val="40458c"/>
                </a:solidFill>
                <a:latin typeface="Tahoma"/>
              </a:rPr>
              <a:t>possono costituire, senza nuovi o maggiori oneri per la finanza pubblica, dipartimenti, quali articolazioni funzionali del collegio dei docenti, per il sostegno alla progettazione formativa e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3000" spc="-1" strike="noStrike">
                <a:solidFill>
                  <a:srgbClr val="40458c"/>
                </a:solidFill>
                <a:latin typeface="Tahoma"/>
              </a:rPr>
              <a:t>alla didattica</a:t>
            </a:r>
            <a:r>
              <a:rPr b="0" i="1" lang="it-IT" sz="30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C1A0-B0C0-44A7-8269-F195BE21EE38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 dipartiment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Nei regolamenti non vengono date indicazioni sulle modalit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organizzativ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potesi possibil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organizzazione per assi culturali (secondo le indicazioni dell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obbligo di istruzion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 dipartimenti sono funzionali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lla progettazione per competenze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lla progettazione multidisciplinare e, per questo, di percorsi per il conseguimento delle competenze di cittadinanza come individuate in sede U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C806-5EB0-4987-850E-D63BBD57ABAF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500" spc="-1" strike="noStrike">
                <a:solidFill>
                  <a:srgbClr val="660066"/>
                </a:solidFill>
                <a:latin typeface="Tahoma"/>
              </a:rPr>
              <a:t>Gli ordinamenti</a:t>
            </a:r>
            <a:endParaRPr b="0" lang="en-US" sz="45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22960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Testo unico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”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 delle leggi sull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’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istruzione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”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D.Lgs. 297/1994 (dall’art. 5 all’art. 15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Delega al Governo per il conferimento di funzioni alle regioni e agli Enti locali per la riforma della PA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”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egge n. 59/97 (art. 21)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 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Conferimento di funzioni alle Regioni e agli Enti locali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”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artt. 137, 138, 139,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Arial Unicode MS"/>
              </a:rPr>
              <a:t>D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.Lgs 112/98)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Regolamento dell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’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autonomia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”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 in attuazione dell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’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art. 21 della L. 59/97),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DPR 275/99 (artt. 1, 3, 4, 5, 6, 7, 8, 9, 11, 14)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egge Costituzionale n. 3/2001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 (Titolo V, artt. 114,116, 117, 118)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  <a:ea typeface="Arial Unicode MS"/>
              </a:rPr>
              <a:t>Riforma Moratti: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egge 53/2003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 e Decreti Legislativi</a:t>
            </a:r>
            <a:br>
              <a:rPr sz="1800"/>
            </a:b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 (sul primo ciclo, n. 59/04; su INVALSI, n. 286/04; su diritto-dovere a istruzione e formazione, n. 76/05; su alternanza scuola-lavoro, n. 77/05; sul secondo ciclo, n. 226/05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innalzamento obbligo di istruzione,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  <a:ea typeface="Arial Unicode MS"/>
              </a:rPr>
              <a:t>DM n. 139/2007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 </a:t>
            </a:r>
            <a:br>
              <a:rPr sz="1800"/>
            </a:b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(in attuazione comma 622 legge 296/06)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1438-F5BF-4AE3-8E7F-ABE9A3EBF46A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Strumenti per le innovazioni: il Comitato tecnico scientifico 1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…”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possono dotarsi, senza nuovi o maggiori oneri per la finanza pubblica, di un comitato (tecnico) scientifico composto di docenti e di esperti del mondo del lavoro, delle professioni, della ricerca scientifica e tecnologica, delle universit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e delle istituzioni di alta formazione artistica, musicale e coreutica, con funzioni </a:t>
            </a:r>
            <a:r>
              <a:rPr b="0" i="1" lang="it-IT" sz="2400" spc="-1" strike="noStrike">
                <a:solidFill>
                  <a:srgbClr val="ff0066"/>
                </a:solidFill>
                <a:latin typeface="Tahoma"/>
              </a:rPr>
              <a:t>consultive e di proposta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per l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2400" spc="-1" strike="noStrike">
                <a:solidFill>
                  <a:srgbClr val="ff0000"/>
                </a:solidFill>
                <a:latin typeface="Tahoma"/>
              </a:rPr>
              <a:t>organizzazione e l'utilizzazione degli spazi di autonomia e flessibilit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à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; ai componenti del comitato non spettano compensi a nessun titolo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F323-EB65-4AE8-A84D-5EE51DEAF4CD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Comitato tecnico scientifico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40458c"/>
                </a:solidFill>
                <a:latin typeface="Tahoma"/>
              </a:rPr>
              <a:t>Il Comitato tecnico scientific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Fa proposte, sulla scorta delle analisi dei bisogni del territorio, al consiglio di istituto, al dirigente e, per le materie di sua competenza, al collegio dei docenti  pe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l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utilizzazione degli spazi di autonomia e flessibilit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à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l'organizzazione delle aree di indirizz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7280-3DC1-4640-BBAE-4C1F4EE80299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Comitato tecnico scientifico 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992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il recupero della centralit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dei laboratori anche come metodologia di base per tutte le discipline;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la centralit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delle forme miste nei percorsi di studio: stage, tirocini, alternanza scuola-lavoro, non 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aggiuntivi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alle lezioni e ai laboratori, ma integrate nel curricolo;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l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organizzazione in dipartimenti, fondamentale se si vuole realizzare una progettazione formativa per competenze, che richiede livelli elevati di ricerca e di progettazione. I dipartimenti dovrebbero supportare il lavoro dei docenti e dei consigli di classe, fornendo metodologie e strumenti di lavoro;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la possibilit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per ogni istituto di stipulare contratti con esperti esterni per sviluppare competenze specialistiche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4224-7B30-44DC-8181-1039A2111B70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L</a:t>
            </a:r>
            <a:r>
              <a:rPr b="0" lang="it-IT" sz="4400" spc="-1" strike="noStrike">
                <a:solidFill>
                  <a:srgbClr val="660066"/>
                </a:solidFill>
                <a:latin typeface="Times New Roman"/>
              </a:rPr>
              <a:t>’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ufficio tec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24"/>
              </a:spcBef>
              <a:buSzPct val="14480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Gli istituti professionali per il settore industria ed artigianato e gli istituti tecnici per il settore tecnologico sono dotati di un ufficio tecnico con il compito di sostenere la migliore organizzazione e funzionalit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 dei laboratori a fini didattici e il loro adeguamento in relazione alle esigenze poste dall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innovazione tecnologica nonch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é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 per la sicurezza delle persone e dell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ambiente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24"/>
              </a:spcBef>
              <a:buSzPct val="14480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Si apre una possibilit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 concreta di costruire archivi di esperienze didattiche innovative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9FA3-8598-44A9-9B00-ECF150F0A4C5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660066"/>
                </a:solidFill>
                <a:latin typeface="Tahoma"/>
              </a:rPr>
              <a:t>Competenze, abilit</a:t>
            </a:r>
            <a:r>
              <a:rPr b="0" lang="it-IT" sz="2900" spc="-1" strike="noStrike">
                <a:solidFill>
                  <a:srgbClr val="660066"/>
                </a:solidFill>
                <a:latin typeface="Times New Roman"/>
              </a:rPr>
              <a:t>à</a:t>
            </a:r>
            <a:r>
              <a:rPr b="0" lang="it-IT" sz="2900" spc="-1" strike="noStrike">
                <a:solidFill>
                  <a:srgbClr val="660066"/>
                </a:solidFill>
                <a:latin typeface="Tahoma"/>
              </a:rPr>
              <a:t>, conoscenze</a:t>
            </a:r>
            <a:endParaRPr b="0" lang="en-US" sz="29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20600" y="1714680"/>
            <a:ext cx="755496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-441360">
              <a:lnSpc>
                <a:spcPct val="90000"/>
              </a:lnSpc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competenze: </a:t>
            </a:r>
            <a:r>
              <a:rPr b="0" i="1" lang="it-IT" sz="2500" spc="-1" strike="noStrike">
                <a:solidFill>
                  <a:srgbClr val="40458c"/>
                </a:solidFill>
                <a:latin typeface="Tahoma"/>
              </a:rPr>
              <a:t>comprovata capacit</a:t>
            </a:r>
            <a:r>
              <a:rPr b="0" i="1" lang="it-IT" sz="2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500" spc="-1" strike="noStrike">
                <a:solidFill>
                  <a:srgbClr val="40458c"/>
                </a:solidFill>
                <a:latin typeface="Tahoma"/>
              </a:rPr>
              <a:t> di usare conoscenze ed abilit</a:t>
            </a:r>
            <a:r>
              <a:rPr b="0" i="1" lang="it-IT" sz="2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500" spc="-1" strike="noStrike">
                <a:solidFill>
                  <a:srgbClr val="40458c"/>
                </a:solidFill>
                <a:latin typeface="Tahoma"/>
              </a:rPr>
              <a:t> in modo autonomo in situazioni di lavoro o di studio e nello sviluppo personale o professionale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441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441360" indent="-441360">
              <a:lnSpc>
                <a:spcPct val="90000"/>
              </a:lnSpc>
              <a:spcBef>
                <a:spcPts val="624"/>
              </a:spcBef>
              <a:buSzPct val="11321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abilit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0" i="1" lang="it-IT" sz="2500" spc="-1" strike="noStrike">
                <a:solidFill>
                  <a:srgbClr val="40458c"/>
                </a:solidFill>
                <a:latin typeface="Tahoma"/>
              </a:rPr>
              <a:t>capacit</a:t>
            </a:r>
            <a:r>
              <a:rPr b="0" i="1" lang="it-IT" sz="2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500" spc="-1" strike="noStrike">
                <a:solidFill>
                  <a:srgbClr val="40458c"/>
                </a:solidFill>
                <a:latin typeface="Tahoma"/>
              </a:rPr>
              <a:t> di applicare conoscenze per portare a termine compiti e risolvere problemi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441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441360" indent="-441360">
              <a:lnSpc>
                <a:spcPct val="90000"/>
              </a:lnSpc>
              <a:spcBef>
                <a:spcPts val="624"/>
              </a:spcBef>
              <a:buSzPct val="1132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conoscenze: </a:t>
            </a:r>
            <a:r>
              <a:rPr b="0" i="1" lang="it-IT" sz="2500" spc="-1" strike="noStrike">
                <a:solidFill>
                  <a:srgbClr val="40458c"/>
                </a:solidFill>
                <a:latin typeface="Tahoma"/>
              </a:rPr>
              <a:t>fatti, principi, teorie relativi al settore di studio o di lavoro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441360" indent="0" algn="r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marL="441360" indent="0" algn="r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marL="441360" indent="0" algn="r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300" spc="-1" strike="noStrike">
                <a:solidFill>
                  <a:srgbClr val="40458c"/>
                </a:solidFill>
                <a:latin typeface="Tahoma"/>
              </a:rPr>
              <a:t>riferimento: decreto ministeriale n. 139/07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6E50-855B-4645-AB9D-C3EE1A8600B4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4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660066"/>
                </a:solidFill>
                <a:latin typeface="Tahoma"/>
              </a:rPr>
              <a:t>obbligo di istruzione: </a:t>
            </a:r>
            <a:br>
              <a:rPr sz="4200"/>
            </a:br>
            <a:r>
              <a:rPr b="0" lang="it-IT" sz="4200" spc="-1" strike="noStrike">
                <a:solidFill>
                  <a:srgbClr val="660066"/>
                </a:solidFill>
                <a:latin typeface="Tahoma"/>
              </a:rPr>
              <a:t>gli assi culturali</a:t>
            </a:r>
            <a:endParaRPr b="0" lang="en-US" sz="4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ono 4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sse dei linguagg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78720" indent="-38736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lingua madre, lingua straniera, multimedi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sse matematic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78720" indent="-38736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ritmetica, algebra, geometria, rappresentazioni grafiche, </a:t>
            </a:r>
            <a:r>
              <a:rPr b="0" i="1" lang="it-IT" sz="2000" spc="-1" strike="noStrike">
                <a:solidFill>
                  <a:srgbClr val="40458c"/>
                </a:solidFill>
                <a:latin typeface="Tahoma"/>
              </a:rPr>
              <a:t>problem solv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sse scientifico-tecnologic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78720" indent="-38736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scienze naturali, trasformazioni di energia, rapporti fra tecnologie ed ambiente, applicazioni informatich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sse storico-social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78720" indent="-38736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storia, economia, cittadinanz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78720" indent="0" algn="r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300" spc="-1" strike="noStrike">
                <a:solidFill>
                  <a:srgbClr val="40458c"/>
                </a:solidFill>
                <a:latin typeface="Tahoma"/>
              </a:rPr>
              <a:t>riferimento: decreto ministeriale n. 139/07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lvl="2" marL="1278720" indent="0" algn="r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39FA-DD04-4D15-89DC-A7843559D4B6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660066"/>
                </a:solidFill>
                <a:latin typeface="Tahoma"/>
              </a:rPr>
              <a:t>raccomandazioni europee:</a:t>
            </a:r>
            <a:br>
              <a:rPr sz="4200"/>
            </a:br>
            <a:r>
              <a:rPr b="0" lang="it-IT" sz="4200" spc="-1" strike="noStrike">
                <a:solidFill>
                  <a:srgbClr val="660066"/>
                </a:solidFill>
                <a:latin typeface="Tahoma"/>
              </a:rPr>
              <a:t>le competenze chiave</a:t>
            </a:r>
            <a:endParaRPr b="0" lang="en-US" sz="4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6760" y="2160720"/>
            <a:ext cx="6929280" cy="38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comunicazione nella madrelingua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comunicazione nelle lingue stranier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competenza matematica e competenze di  base scientifiche e tecnologich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spcAft>
                <a:spcPts val="862"/>
              </a:spcAft>
              <a:buSzPct val="11326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competenza digital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imparare ad imparar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competenze sociali e civich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senso di iniziativa ed imprenditorialit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consapevolezza ed espressione culturali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le prime quattro sono legate ai saperi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le altre quattro al saper essere e saper far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958A-0064-4C39-AB7C-830D13C3ED48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Allegato 2 del regolamento DM 139/2007</a:t>
            </a:r>
            <a:br>
              <a:rPr sz="3300"/>
            </a:b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Le competenze di cittadinanza</a:t>
            </a:r>
            <a:endParaRPr b="0" lang="en-US" sz="33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0458c"/>
                </a:solidFill>
                <a:latin typeface="Tahoma"/>
              </a:rPr>
              <a:t>Imparare ad imparar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: organizzare il proprio apprendimento, individuando, scegliendo ed utilizzando varie fonti e varie modal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di informazione e di formazione (formale, non formale ed informale), anche in funzione dei tempi disponibili, delle proprie strategie e del proprio metodo di studio e di lavoro.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1" lang="it-IT" sz="1400" spc="-1" strike="noStrike">
                <a:solidFill>
                  <a:srgbClr val="40458c"/>
                </a:solidFill>
                <a:latin typeface="Tahoma"/>
              </a:rPr>
              <a:t>Progettar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: elaborare e realizzare progetti riguardanti lo sviluppo delle proprie attiv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di studio e di lavoro, utilizzando le conoscenze apprese per stabilire obiettivi significativi e realistici e le relative prior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, valutando i vincoli e le possibil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esistenti, definendo strategie di azione e verificando i risultati raggiunti.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0458c"/>
                </a:solidFill>
                <a:latin typeface="Tahoma"/>
              </a:rPr>
              <a:t>Comunicare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o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     </a:t>
            </a:r>
            <a:r>
              <a:rPr b="0" i="1" lang="it-IT" sz="1400" spc="-1" strike="noStrike">
                <a:solidFill>
                  <a:srgbClr val="40458c"/>
                </a:solidFill>
                <a:latin typeface="Tahoma"/>
              </a:rPr>
              <a:t>comprender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messaggi di genere diverso (quotidiano, letterario, tecnico, scientifico) e di compless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diversa, trasmessi utilizzando linguaggi diversi (verbale, matematico, scientifico, simbolico, ecc.) mediante diversi supporti (cartacei, informatici e multimediali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o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i="1" lang="it-IT" sz="1400" spc="-1" strike="noStrike">
                <a:solidFill>
                  <a:srgbClr val="40458c"/>
                </a:solidFill>
                <a:latin typeface="Tahoma"/>
              </a:rPr>
              <a:t>rappresentar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eventi, fenomeni, principi, concetti, norme, procedure, atteggiamenti, stati d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animo, emozioni, ecc. utilizzando linguaggi diversi (verbale, matematico, scientifico, simbolico, ecc.) e diverse conoscenze disciplinari, mediante diversi supporti (cartacei, informatici e multimediali).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0458c"/>
                </a:solidFill>
                <a:latin typeface="Tahoma"/>
              </a:rPr>
              <a:t>Collaborare e partecipare:</a:t>
            </a:r>
            <a:r>
              <a:rPr b="0" i="1" lang="it-IT" sz="1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interagire in gruppo, comprendendo i diversi punti di vista, valorizzando le proprie e le altrui capac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, gestendo la conflittual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, contribuendo all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apprendimento comune ed alla realizzazione delle attiv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collettive, nel riconoscimento dei diritti fondamentali degli altri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9E72-DE6D-4E2D-BC9B-83AB4B8AC8A8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Allegato 2 del regolamento DM 139/2007</a:t>
            </a:r>
            <a:br>
              <a:rPr sz="3300"/>
            </a:b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Le competenze di cittadinanza</a:t>
            </a:r>
            <a:endParaRPr b="0" lang="en-US" sz="33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Agire in modo autonomo e responsabil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: sapersi inserire in modo attivo e consapevole nella vita sociale e far valere al suo interno i propri diritti e bisogni riconoscendo al contempo quelli altrui, le opportunit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comuni, i limiti, le regole, le responsabilit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Risolvere problemi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: affrontare situazioni problematiche costruendo e verificando ipotesi, individuando le fonti e le risorse adeguate, raccogliendo e valutando i dati, proponendo soluzioni utilizzando, secondo il tipo di problema, contenuti e metodi delle diverse discipline.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Individuare collegamenti e relazioni: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individuare e rappresentare, elaborando argomentazioni coerenti, collegamenti e relazioni tra fenomeni, eventi e concetti diversi, anche appartenenti a diversi ambiti disciplinari, e lontani nello spazio e nel tempo, cogliendone la natura sistemica, individuando analogie e differenze, coerenze ed incoerenze, cause ed effetti e la loro natura probabilistica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Acquisire ed interpretare l</a:t>
            </a:r>
            <a:r>
              <a:rPr b="1" lang="it-IT" sz="16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informazion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: acquisire ed interpretare criticamente l'informazione ricevuta nei diversi ambiti ed attraverso diversi strumenti comunicativi, valutandone l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attendibilit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e l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utilit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, distinguendo fatti e opinioni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C1C1-1F57-4EBD-978B-177E7F127239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9" name="Picture 3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324000" y="260280"/>
            <a:ext cx="7705440" cy="633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8270-F188-47B4-85C8-7F4A4070D772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500" spc="-1" strike="noStrike">
                <a:solidFill>
                  <a:srgbClr val="660066"/>
                </a:solidFill>
                <a:latin typeface="Tahoma"/>
              </a:rPr>
              <a:t>Gli ordinamenti</a:t>
            </a:r>
            <a:endParaRPr b="0" lang="en-US" sz="45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40458c"/>
                </a:solidFill>
                <a:latin typeface="Arial Unicode MS"/>
                <a:ea typeface="Arial Unicode MS"/>
              </a:rPr>
              <a:t>❒ </a:t>
            </a:r>
            <a:r>
              <a:rPr b="1" lang="it-IT" sz="1900" spc="-1" strike="noStrike">
                <a:solidFill>
                  <a:srgbClr val="40458c"/>
                </a:solidFill>
                <a:latin typeface="Arial Unicode MS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40458c"/>
                </a:solidFill>
                <a:latin typeface="Arial Unicode MS"/>
                <a:ea typeface="Arial Unicode MS"/>
              </a:rPr>
              <a:t>R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iforma istruzione tecnica: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egge n. 40/2007 art. 13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DPCM 25 gennaio 2008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recante linee guida per la riorganizzazione del Sistema di istruzione e formazione tecnica superiore e la costituzione degli Istituti Tecnici Superiori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Decreto-Legge 25 giugno 2008, n. 112 </a:t>
            </a:r>
            <a:r>
              <a:rPr b="1" i="1" lang="it-IT" sz="1800" spc="-1" strike="noStrike">
                <a:solidFill>
                  <a:srgbClr val="ff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egge di conversione 6 agosto 2008, n. 133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Disposizioni   urgenti  per  lo  sviluppo  economico,  la semplificazione,  la competitivit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, la stabilizzazione della finanza pubblica e la perequazione tributaria.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</a:t>
            </a:r>
            <a:r>
              <a:rPr b="1" lang="it-IT" sz="1800" spc="-1" strike="noStrike">
                <a:solidFill>
                  <a:srgbClr val="ff0000"/>
                </a:solidFill>
                <a:latin typeface="Times New Roman"/>
              </a:rPr>
              <a:t>’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art. 64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, comma, 3 del DL, prevede un </a:t>
            </a:r>
            <a:r>
              <a:rPr b="0" lang="it-IT" sz="1800" spc="-1" strike="noStrike">
                <a:solidFill>
                  <a:srgbClr val="ff0000"/>
                </a:solidFill>
                <a:latin typeface="Tahoma"/>
              </a:rPr>
              <a:t>Piano programmatico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del Ministero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Istruzione,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Universit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e della Ricerca di concerto con il Ministro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Economia e delle Finanze (predisposto il 4 settembre 2008)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Decreto-Legge 1 settembre 2008, n. 137 </a:t>
            </a:r>
            <a:r>
              <a:rPr b="1" i="1" lang="it-IT" sz="1800" spc="-1" strike="noStrike">
                <a:solidFill>
                  <a:srgbClr val="ff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egge di conversione 30 ottobre 2008, n. 169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Disposizioni urgenti in materia di istruzione e universit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.</a:t>
            </a:r>
            <a:br>
              <a:rPr sz="1800"/>
            </a:b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(maestro unico, valutazione in decimi, voto di condotta, libri di testo).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E48F-7A7F-46AB-9702-2ED9880220AD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12" name="Picture 3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0" y="0"/>
            <a:ext cx="8352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897A-F3ED-4170-9758-0F954E2E1308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 livell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Livello bas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: lo studente svolge compiti semplici in situazioni note,mostrando di possedere conoscenze ed abilit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essenziali e di saper applicare regole e procedure fondamentali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Nel caso in cui non sia stato raggiunto il livello base,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è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riportata l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espression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livello base non raggiunto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, con l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indicazione della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relativa motivazion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Livello intermedio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: lo studente svolge compiti e risolve problemi complessi in situazioni note, compie scelte consapevoli, mostrando di saper utilizzare le conoscenze e le abilit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acquisite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Livello avanzato: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lo studente svolge compiti e problemi complessi in situazioni anche non note, mostrando padronanza n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uso delle conoscenze e delle abilit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. Sa proporre e sostenere le proprie opinioni e assumere autonomamente decisioni consapevol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DCBB-C07C-4664-8139-ABAA14527147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Indicazioni nazionali per i Licei e Linee guida per IT e IP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7083720" cy="48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Indicazioni nazionali per i Licei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: per riferimento alla Legge 53/03 e al D.Lgs 226/05 che viene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riordinato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- Linee guida per IT e IP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: per l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attuazione della Legge 40/2007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Non ci sono pi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ù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i 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programmi ministeriali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sulle discipline di insegnamento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il MIUR d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Indicazioni alle scuole (profili, obiettivi generali, obiettivi specifici) sui </a:t>
            </a:r>
            <a:r>
              <a:rPr b="1" lang="it-IT" sz="1700" spc="-1" strike="noStrike">
                <a:solidFill>
                  <a:srgbClr val="ff0000"/>
                </a:solidFill>
                <a:latin typeface="Tahoma"/>
              </a:rPr>
              <a:t>risultati di apprendimento</a:t>
            </a: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 descritti per: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0000"/>
                </a:solidFill>
                <a:latin typeface="Tahoma"/>
              </a:rPr>
              <a:t>competenze</a:t>
            </a:r>
            <a:r>
              <a:rPr b="0" lang="it-IT" sz="17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(per 1° biennio, 2° biennio, 5° anno, con l</a:t>
            </a:r>
            <a:r>
              <a:rPr b="0" lang="it-IT" sz="17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indicazione delle discipline che concorrono al loro raggiungimento)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b34f4"/>
                </a:solidFill>
                <a:latin typeface="Tahoma"/>
              </a:rPr>
              <a:t>attraverso</a:t>
            </a:r>
            <a:r>
              <a:rPr b="1" lang="it-IT" sz="1700" spc="-1" strike="noStrike">
                <a:solidFill>
                  <a:srgbClr val="ff0000"/>
                </a:solidFill>
                <a:latin typeface="Tahoma"/>
              </a:rPr>
              <a:t> abilit</a:t>
            </a:r>
            <a:r>
              <a:rPr b="1" lang="it-IT" sz="1700" spc="-1" strike="noStrike">
                <a:solidFill>
                  <a:srgbClr val="ff0000"/>
                </a:solidFill>
                <a:latin typeface="Times New Roman"/>
              </a:rPr>
              <a:t>à e </a:t>
            </a:r>
            <a:r>
              <a:rPr b="1" lang="it-IT" sz="1700" spc="-1" strike="noStrike">
                <a:solidFill>
                  <a:srgbClr val="ff0000"/>
                </a:solidFill>
                <a:latin typeface="Tahoma"/>
              </a:rPr>
              <a:t>conoscenze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0000"/>
                </a:solidFill>
                <a:latin typeface="Tahoma"/>
              </a:rPr>
              <a:t>- I docenti individuano i percorsi formativi (conoscenze correlate alle abilit</a:t>
            </a:r>
            <a:r>
              <a:rPr b="1" lang="it-IT" sz="1700" spc="-1" strike="noStrike">
                <a:solidFill>
                  <a:srgbClr val="ff0000"/>
                </a:solidFill>
                <a:latin typeface="Times New Roman"/>
              </a:rPr>
              <a:t>à</a:t>
            </a:r>
            <a:r>
              <a:rPr b="1" lang="it-IT" sz="1700" spc="-1" strike="noStrike">
                <a:solidFill>
                  <a:srgbClr val="ff0000"/>
                </a:solidFill>
                <a:latin typeface="Tahoma"/>
              </a:rPr>
              <a:t>) per il conseguimento delle competenze indicate.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6A6B-1D8D-477F-A8E2-25FBEDD9E89F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Laboratori e laboratorialit</a:t>
            </a:r>
            <a:r>
              <a:rPr b="0" lang="it-IT" sz="4400" spc="-1" strike="noStrike">
                <a:solidFill>
                  <a:srgbClr val="660066"/>
                </a:solidFill>
                <a:latin typeface="Times New Roman"/>
              </a:rPr>
              <a:t>à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I percorsi degli IT 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…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si realizzano attraverso metodologie finalizzate a sviluppare, con particolare riferimento alle attivit</a:t>
            </a:r>
            <a:r>
              <a:rPr b="0" i="1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 e agli insegnamenti di indirizzo, competenze basate sulla </a:t>
            </a:r>
            <a:r>
              <a:rPr b="0" i="1" lang="it-IT" sz="2300" spc="-1" strike="noStrike">
                <a:solidFill>
                  <a:srgbClr val="f04010"/>
                </a:solidFill>
                <a:latin typeface="Tahoma"/>
              </a:rPr>
              <a:t>didattica di laboratorio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2300" spc="-1" strike="noStrike">
                <a:solidFill>
                  <a:srgbClr val="f04010"/>
                </a:solidFill>
                <a:latin typeface="Tahoma"/>
              </a:rPr>
              <a:t>l'analisi e la soluzione dei problemi, il lavoro per progetti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; sono orientati alla gestione di processi in contesti organizzati e all'uso di modelli e linguaggi specifici; sono strutturati in modo da favorire un collegamento organico con il mondo del lavoro e delle professioni, compresi il volontariato ed il privato sociale. Stage, tirocini e alternanza scuola lavoro sono strumenti didattici per la realizzazione dei percorsi di studio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.(art. 5, c. 2/e)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1CBC-0A26-4540-988F-B2CDAE7FA8CA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Laboratori e laboratorialit</a:t>
            </a:r>
            <a:r>
              <a:rPr b="0" lang="it-IT" sz="4400" spc="-1" strike="noStrike">
                <a:solidFill>
                  <a:srgbClr val="660066"/>
                </a:solidFill>
                <a:latin typeface="Times New Roman"/>
              </a:rPr>
              <a:t>à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I percorsi liceali forniscono allo studente gli strumenti culturali e metodologici per una comprensione approfondita della realt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, affinch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é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egli si ponga, con atteggiamento razionale,creativo, </a:t>
            </a:r>
            <a:r>
              <a:rPr b="0" i="1" lang="it-IT" sz="2400" spc="-1" strike="noStrike">
                <a:solidFill>
                  <a:srgbClr val="f04010"/>
                </a:solidFill>
                <a:latin typeface="Tahoma"/>
              </a:rPr>
              <a:t>progettuale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e critico, di fronte alle situazioni, ai fenomeni e ai problemi, ed acquisisca </a:t>
            </a:r>
            <a:r>
              <a:rPr b="0" i="1" lang="it-IT" sz="2400" spc="-1" strike="noStrike">
                <a:solidFill>
                  <a:srgbClr val="f04010"/>
                </a:solidFill>
                <a:latin typeface="Tahoma"/>
              </a:rPr>
              <a:t>conoscenze, abilit</a:t>
            </a:r>
            <a:r>
              <a:rPr b="0" i="1" lang="it-IT" sz="2400" spc="-1" strike="noStrike">
                <a:solidFill>
                  <a:srgbClr val="f04010"/>
                </a:solidFill>
                <a:latin typeface="Times New Roman"/>
              </a:rPr>
              <a:t>à</a:t>
            </a:r>
            <a:r>
              <a:rPr b="0" i="1" lang="it-IT" sz="2400" spc="-1" strike="noStrike">
                <a:solidFill>
                  <a:srgbClr val="f04010"/>
                </a:solidFill>
                <a:latin typeface="Tahoma"/>
              </a:rPr>
              <a:t> e competenze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coerenti con le capacit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e le scelte personali e adeguate al proseguimento degli studi di ordine superiore, all'inserimento nella vita sociale e nel mondo del lavoro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.(art. 2, c.2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AD8C-E3DB-45A3-B815-D36300D1757B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Metodologie innovativ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04010"/>
                </a:solidFill>
                <a:latin typeface="Tahoma"/>
              </a:rPr>
              <a:t>didattica laboratoriale e in laboratori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04010"/>
                </a:solidFill>
                <a:latin typeface="Tahoma"/>
              </a:rPr>
              <a:t>analisi e soluzione dei problem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04010"/>
                </a:solidFill>
                <a:latin typeface="Tahoma"/>
              </a:rPr>
              <a:t>lavoro per progett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40458c"/>
                </a:solidFill>
                <a:latin typeface="Tahoma"/>
              </a:rPr>
              <a:t>tirocini e alternanza scuola lavor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40458c"/>
                </a:solidFill>
                <a:latin typeface="Tahoma"/>
              </a:rPr>
              <a:t>cooperative learn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40458c"/>
                </a:solidFill>
                <a:latin typeface="Tahoma"/>
              </a:rPr>
              <a:t>uso di tecnologie avanzat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F409-5218-4BE5-9556-91804FC24979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660066"/>
                </a:solidFill>
                <a:latin typeface="Tahoma"/>
              </a:rPr>
              <a:t>CLIL - </a:t>
            </a:r>
            <a:r>
              <a:rPr b="0" lang="it-IT" sz="2900" spc="-1" strike="noStrike">
                <a:solidFill>
                  <a:srgbClr val="660066"/>
                </a:solidFill>
                <a:latin typeface="Tahoma"/>
              </a:rPr>
              <a:t>Content and Language Integrated Learning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Nei Licei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Fatto salvo quanto stabilito specificamente per il percorso del liceo linguistico*, nel quinto anno </a:t>
            </a:r>
            <a:r>
              <a:rPr b="0" i="1" lang="it-IT" sz="2300" spc="-1" strike="noStrike">
                <a:solidFill>
                  <a:srgbClr val="40458c"/>
                </a:solidFill>
                <a:latin typeface="Times New Roman"/>
              </a:rPr>
              <a:t>è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 impartito l'insegnamento, in lingua straniera, di una disciplina non linguistica compresa nell'area delle attivit</a:t>
            </a:r>
            <a:r>
              <a:rPr b="0" i="1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 e degli insegnamenti obbligatori per tutti gli studenti o nell'area degli insegnamenti attivabili dalle istituzioni scolastiche nei limiti del contingente di organico ad esse annualmente assegnato . Tale insegnamento </a:t>
            </a:r>
            <a:r>
              <a:rPr b="0" i="1" lang="it-IT" sz="2300" spc="-1" strike="noStrike">
                <a:solidFill>
                  <a:srgbClr val="40458c"/>
                </a:solidFill>
                <a:latin typeface="Times New Roman"/>
              </a:rPr>
              <a:t>è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 attivato in ogni caso nei limiti degli organici determinati a legislazione vigente</a:t>
            </a:r>
            <a:r>
              <a:rPr b="0" i="1" lang="it-IT" sz="23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Negli IT la lingua che si utilizza 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è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l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inglese ed 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è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scelta tra quelle dell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area di indirizzo del quinto ann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*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Nei licei linguistici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si inizia dal primo anno del secondo bienni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CFD7-DB1F-4D04-91A1-D8BFF22001C5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3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660066"/>
                </a:solidFill>
                <a:latin typeface="Tahoma"/>
              </a:rPr>
              <a:t>quadro ordinamenti</a:t>
            </a:r>
            <a:endParaRPr b="0" lang="en-US" sz="4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21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spcAft>
                <a:spcPts val="938"/>
              </a:spcAft>
              <a:buSzPct val="14480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scuola dell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infanzia: 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tre anni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SzPct val="14480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1° ciclo: 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678240" indent="-340560">
              <a:lnSpc>
                <a:spcPct val="80000"/>
              </a:lnSpc>
              <a:spcBef>
                <a:spcPts val="6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scuola primaria: 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cinque anni</a:t>
            </a:r>
            <a:endParaRPr b="0" lang="en-US" sz="2700" spc="-1" strike="noStrike">
              <a:solidFill>
                <a:srgbClr val="40458c"/>
              </a:solidFill>
              <a:latin typeface="Tahoma"/>
            </a:endParaRPr>
          </a:p>
          <a:p>
            <a:pPr lvl="1" marL="678240" indent="-340560">
              <a:lnSpc>
                <a:spcPct val="80000"/>
              </a:lnSpc>
              <a:spcBef>
                <a:spcPts val="6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scuola secondaria di primo grado: 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tre anni</a:t>
            </a:r>
            <a:endParaRPr b="0" lang="en-US" sz="27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sono individuati i </a:t>
            </a:r>
            <a:r>
              <a:rPr b="0" i="1" lang="it-IT" sz="19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traguardi di competenza</a:t>
            </a:r>
            <a:r>
              <a:rPr b="0" i="1" lang="it-IT" sz="19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Pubblicata (nov 2012) la revisione delle Indicazioni per il 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curricolo per la scuola dell</a:t>
            </a:r>
            <a:r>
              <a:rPr b="0" i="1" lang="it-IT" sz="19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infanzia e il primo ciclo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2° ciclo: 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678240" indent="-340560">
              <a:lnSpc>
                <a:spcPct val="80000"/>
              </a:lnSpc>
              <a:spcBef>
                <a:spcPts val="6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licei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cinque anni</a:t>
            </a:r>
            <a:endParaRPr b="0" lang="en-US" sz="2700" spc="-1" strike="noStrike">
              <a:solidFill>
                <a:srgbClr val="40458c"/>
              </a:solidFill>
              <a:latin typeface="Tahoma"/>
            </a:endParaRPr>
          </a:p>
          <a:p>
            <a:pPr lvl="1" marL="678240" indent="-340560">
              <a:lnSpc>
                <a:spcPct val="80000"/>
              </a:lnSpc>
              <a:spcBef>
                <a:spcPts val="6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istituti tecnici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imes New Roman"/>
              </a:rPr>
              <a:t>“</a:t>
            </a:r>
            <a:endParaRPr b="0" lang="en-US" sz="2700" spc="-1" strike="noStrike">
              <a:solidFill>
                <a:srgbClr val="40458c"/>
              </a:solidFill>
              <a:latin typeface="Tahoma"/>
            </a:endParaRPr>
          </a:p>
          <a:p>
            <a:pPr lvl="1" marL="678240" indent="-340560">
              <a:lnSpc>
                <a:spcPct val="80000"/>
              </a:lnSpc>
              <a:spcBef>
                <a:spcPts val="6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istituti professionali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imes New Roman"/>
              </a:rPr>
              <a:t>“</a:t>
            </a:r>
            <a:endParaRPr b="0" lang="en-US" sz="27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sono individuati i </a:t>
            </a:r>
            <a:r>
              <a:rPr b="0" i="1" lang="it-IT" sz="19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risultati di apprendimento</a:t>
            </a:r>
            <a:r>
              <a:rPr b="0" i="1" lang="it-IT" sz="19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F42F-9306-4EEC-9DEC-79C8AD56FBB4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 lice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I </a:t>
            </a:r>
            <a:r>
              <a:rPr b="1" lang="it-IT" sz="2300" spc="-1" strike="noStrike">
                <a:solidFill>
                  <a:srgbClr val="40458c"/>
                </a:solidFill>
                <a:latin typeface="Tahoma"/>
              </a:rPr>
              <a:t>licei 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sono sei, con indirizzi e opzioni: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- artistico con sei indirizzi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Arti figurativ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Architettura e ambient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Design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Audiovisivo e multimedial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Grafica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Scenografia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- classico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- linguistico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- musicale e coreutico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- scientifico con opzione scienze applicat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- scienze umane con opzione economico-sociale 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A091-BB12-4037-ADAD-B41F0A0B6F0A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Gli Istituti tecnici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Gli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Istituti Tecnici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sono organizzati in due settori con undici indirizzi (con articolazioni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Settore economico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con due indirizz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mministrazione, Finanza e Marketing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Relazioni internazionali per il Marketing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Sistemi informativi aziendali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Turism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Settore tecnologico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con nove indirizzi (con articolazioni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Meccanica, Meccatronica ed Energi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Meccanica e meccatronic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d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Energi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Trasporti e Logistic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Costruzione del mezzo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Conduzione del mezzo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Logistic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Elettronica ed Elettrotecnic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Elettronic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Elettrotecnic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Automazione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E032-3517-4B4D-A9FC-7009BE934407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660066"/>
                </a:solidFill>
                <a:latin typeface="Tahoma"/>
              </a:rPr>
              <a:t>Gli ordinamenti</a:t>
            </a:r>
            <a:endParaRPr b="0" lang="en-US" sz="4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85520" y="1904760"/>
            <a:ext cx="78246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  <a:ea typeface="Arial Unicode MS"/>
              </a:rPr>
              <a:t> 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2400" spc="-1" strike="noStrike">
                <a:solidFill>
                  <a:srgbClr val="ff0000"/>
                </a:solidFill>
                <a:latin typeface="Tahoma"/>
                <a:ea typeface="Arial Unicode MS"/>
              </a:rPr>
              <a:t>DPR n. 81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  <a:ea typeface="Arial Unicode MS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Tahoma"/>
                <a:ea typeface="Arial Unicode MS"/>
              </a:rPr>
              <a:t>del 20.03.2009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  <a:ea typeface="Arial Unicode MS"/>
              </a:rPr>
              <a:t>,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Regolamento su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Norme per la riorganizzazione della rete scolastica e il razionale ed efficace utilizzo delle risorse umane della scuola, ai sensi dell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articolo 64, comma 4, del decreto legge 25 giugno 2008, n. 112, convertito con modificazioni della legge 6 agosto 2008, </a:t>
            </a:r>
            <a:r>
              <a:rPr b="1" i="1" lang="it-IT" sz="2400" spc="-1" strike="noStrike">
                <a:solidFill>
                  <a:srgbClr val="40458c"/>
                </a:solidFill>
                <a:latin typeface="Tahoma"/>
              </a:rPr>
              <a:t>n.133</a:t>
            </a:r>
            <a:r>
              <a:rPr b="1" i="1" lang="it-IT" sz="24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1" i="1" lang="it-IT" sz="24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DE01-31F8-49D7-9A51-1B1FC70E2A41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Gli istituti tecnici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Informatica e Telecomunicazioni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Informatica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Telecomunicazioni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Grafica e Comunicazione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Chimica, Materiali e Biotecnologie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Chimica e materiali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Biotecnologie ambientali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Biotecnologie sanitarie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Sistema Moda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Tessile, abbigliamento e moda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Calzature e moda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graria, Agroalimentare e Agroindustria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Produzioni e trasformazioni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Gestione dell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ambiente e del territorio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Viticoltura ed enologia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Costruzioni, Ambiente e Territorio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rticolazione: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Geotecnico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CA3C-8D25-42C4-9772-809344B06529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Gli Istituti professional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Gli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Istituti professionali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sono organizzati in due settori e sei indirizzi (con articolazioni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Settore servizi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con quattro indirizz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Per 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gricoltura e lo sviluppo rural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Socio sanitari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 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Arti ausiliarie delle professioni sanitarie, Odontotecnico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Arti ausiliarie delle professioni sanitarie, Ottico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Per 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enogastronomia e 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ospitalit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alberghier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Enogastronomi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Servizi di sala e di vendit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Accoglienza turistic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Commercial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Settor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Industria e artigianato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con due indirizzi (con articolazioni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Produzioni artigianali e industrial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Industri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Artigianato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Manutenzione e assistenza tecnic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5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035F-AF35-4199-B20D-6FCE3376C593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5249-4FB8-471C-A4F9-1CEC3C978625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2" name="Segnaposto numero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3" name="Text Box 2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660066"/>
                </a:solidFill>
                <a:latin typeface="Arial"/>
                <a:ea typeface="Lucida Sans Unicode"/>
              </a:rPr>
              <a:t>Obbligo e diritto-dovere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6560" indent="-4665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obbligo di istruzione:</a:t>
            </a:r>
            <a:r>
              <a:rPr b="0" lang="it-IT" sz="21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fino a 16 anni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66560" indent="-4665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466560" indent="-466560">
              <a:lnSpc>
                <a:spcPct val="80000"/>
              </a:lnSpc>
              <a:spcBef>
                <a:spcPts val="499"/>
              </a:spcBef>
              <a:spcAft>
                <a:spcPts val="587"/>
              </a:spcAft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- nel 1° biennio del secondo ciclo, </a:t>
            </a:r>
            <a:r>
              <a:rPr b="0" i="1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oppure</a:t>
            </a: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 </a:t>
            </a:r>
            <a:br>
              <a:rPr sz="1900"/>
            </a:b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- nei percorsi di istruzione e formazione professionale (in attuazione del capo III del D.Lgs 226/05 e dell’Intesa del 16 dic 2010)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561"/>
              </a:spcAft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- </a:t>
            </a: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ei percorsi formativi previsti dalla legge sull’apprendistato 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(innalzata l’età di accesso a 16 anni da Legge finanziaria 2007, è stato approvato nella Legge n.183/2010, “Collegato al lavoro”, un ritorno alla soglia minima di 15 anni, con compimento di obbligo nei percorsi per apprendistato, disposizione confermata nel </a:t>
            </a:r>
            <a:r>
              <a:rPr b="1" lang="it-IT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TU 167/2011</a:t>
            </a:r>
            <a:r>
              <a:rPr b="0" lang="it-IT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587"/>
              </a:spcAft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Vige il D.Lgs 76/2005 su “Diritto – Dovere a istruzione e formazione professionale” per il quale si resta in formazione fino a 18 anni (salvo conseguimento di qualifica professionale entro i 18 anni)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8239-5237-47EC-9726-5292C4D3C822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ahoma"/>
              </a:rPr>
              <a:t>titoli di studio e qualifiche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ahoma"/>
              </a:rPr>
              <a:t>Istituti tecnici rilasciano diplomi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ahoma"/>
              </a:rPr>
              <a:t>Istituti professionali rilasciano diplomi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ahoma"/>
              </a:rPr>
              <a:t>Licei rilasciano diplomi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Gli istituti professionali rilasciano diplomi quinquennali; in sussidiariet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 con le Regioni, possono rilasciare qualifiche triennali o diplomi professionali quadriennali (compresi nel repertorio nazionale di cui alla Legge 40/07) secondo le due modalit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 dell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Intesa del 16 dic 2010: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- offerta sussidiaria integrativ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B- offerta sussidiaria complementar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olo per gli iscritti alle classi prime dell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.s. 2010-11 vige il regime surrogatorio (si rilasciano ancora qualifiche triennali)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utti i diplomi danno accesso agli studi superiori universitari o tecnici (Istituti Tecnici Superiori) e al mondo del lavor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Riferimento obbligatorio (entro il 2012) al sistema EQF: European Qualifications Framework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826C-7BD8-4164-8C6B-15D2BFAF8934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3246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Intesa Stato-Regioni 16 dicembre 2010</a:t>
            </a:r>
            <a:endParaRPr b="0" lang="en-US" sz="33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25336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Si definiscono i rapporti tra istituti professionali e istruzione e formazione professionale di competenza regionale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L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intesa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riguarda l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dozione di linee-guida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ttua una previsione legislativa: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legge 2 aprile 2007, n. 40 art. 13.1.5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consente di conseguire 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qualifiche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negli istituti professionali di sta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40458c"/>
                </a:solidFill>
                <a:latin typeface="Tahoma"/>
              </a:rPr>
              <a:t>in regime integrativ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40458c"/>
                </a:solidFill>
                <a:latin typeface="Tahoma"/>
              </a:rPr>
              <a:t>in regime complementa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40458c"/>
                </a:solidFill>
                <a:latin typeface="Tahoma"/>
              </a:rPr>
              <a:t>la decisione spetta a ciascuna Region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EDC7-B891-4912-90A2-29EBF09BCA66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stituti professional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40458c"/>
                </a:solidFill>
                <a:latin typeface="Tahoma"/>
              </a:rPr>
              <a:t>CM 101 del 30 dicembre 2010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1" lang="it-IT" sz="2200" spc="-1" strike="noStrike">
                <a:solidFill>
                  <a:srgbClr val="40458c"/>
                </a:solidFill>
                <a:latin typeface="Tahoma"/>
              </a:rPr>
              <a:t>Tipologia A </a:t>
            </a:r>
            <a:r>
              <a:rPr b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1" lang="it-IT" sz="2200" spc="-1" strike="noStrike">
                <a:solidFill>
                  <a:srgbClr val="40458c"/>
                </a:solidFill>
                <a:latin typeface="Tahoma"/>
              </a:rPr>
              <a:t>offerta sussidiaria integrativa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(Linee guida, capo II, punto 2)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Gli studenti che chiedono di iscriversi alla classe prima degli indirizzi quinquennali degli istituti professionali di cui all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llegato 1 possono contestualmente chiedere anche di poter conseguire una qualifica professionale di cui all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llegato 2 a conclusione del terzo anno. A tal fine, gli istituti professionali propongono agli studenti e alle loro famiglie i percorsi di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qualifica corrispondenti, in base a quanto previsto dalla tabella allegato n. 3, a quelli realizzati nel corrente anno scolastico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3153-E393-4E7E-A995-ADF9FFE924AF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stituti professional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tipologia B 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offerta sussidiaria complementare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(Linee guida, capo II, punto 2)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Tale tipologia può trovare attuazione solo qualora il competente Assessorato regionale decida, in attuazione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ccordo territoriale col competente USR per la prima attuazione delle linee guida, di attivare presso gli istituti professionali classi prime che assumano gli standard formativi e la regolamentazione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ordinamento dei percorsi triennali di IeFP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In tale caso possono iscriversi a detti corsi gli studenti che intendano conseguire solo i titoli di qualifica triennali di cui al Capo II, punto 2, delle Linee guida. 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iscrizione ai citati percorsi avverr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secondo modalit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e procedure operative da concordare sulla base delle indicazioni che le singole Regioni forniranno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1221-4128-4543-844A-EA78CC0144F4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660066"/>
                </a:solidFill>
                <a:latin typeface="Tahoma"/>
              </a:rPr>
              <a:t>Gli ordinamenti</a:t>
            </a:r>
            <a:endParaRPr b="0" lang="en-US" sz="4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331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ff0000"/>
                </a:solidFill>
                <a:latin typeface="Tahoma"/>
              </a:rPr>
              <a:t>DPR n. 89 del 20.03.2009</a:t>
            </a: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7030a0"/>
                </a:solidFill>
                <a:latin typeface="Times New Roman"/>
              </a:rPr>
              <a:t>“</a:t>
            </a:r>
            <a:r>
              <a:rPr b="0" lang="it-IT" sz="2000" spc="-1" strike="noStrike">
                <a:solidFill>
                  <a:srgbClr val="7030a0"/>
                </a:solidFill>
                <a:latin typeface="Tahoma"/>
              </a:rPr>
              <a:t>Regolamento su Scuola dell</a:t>
            </a:r>
            <a:r>
              <a:rPr b="0" lang="it-IT" sz="2000" spc="-1" strike="noStrike">
                <a:solidFill>
                  <a:srgbClr val="7030a0"/>
                </a:solidFill>
                <a:latin typeface="Times New Roman"/>
              </a:rPr>
              <a:t>’</a:t>
            </a:r>
            <a:r>
              <a:rPr b="0" lang="it-IT" sz="2000" spc="-1" strike="noStrike">
                <a:solidFill>
                  <a:srgbClr val="7030a0"/>
                </a:solidFill>
                <a:latin typeface="Tahoma"/>
              </a:rPr>
              <a:t>infanzia e primo Ciclo di istruzione</a:t>
            </a:r>
            <a:r>
              <a:rPr b="0" lang="it-IT" sz="2000" spc="-1" strike="noStrike">
                <a:solidFill>
                  <a:srgbClr val="7030a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1900" spc="-1" strike="noStrike">
                <a:solidFill>
                  <a:srgbClr val="ff0000"/>
                </a:solidFill>
                <a:latin typeface="Tahoma"/>
              </a:rPr>
              <a:t>DPR n. 87, 15 marzo 2010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 recante norme concernenti il riordino degli 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istituti professionali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 ai sensi dell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art. 64, comma 4, del decreto legge 25 giugno 2008 n. 112, convertito dalla legge 6 agosto 2008, n. 133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1900" spc="-1" strike="noStrike">
                <a:solidFill>
                  <a:srgbClr val="ff0000"/>
                </a:solidFill>
                <a:latin typeface="Tahoma"/>
              </a:rPr>
              <a:t>DPR n. 88, 15 marzo 2010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 recante norme concernenti il riordino degli 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istituti tecnici 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ai sensi dell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art. 64, comma 4, del decreto legge 25 giugno 2008 n. 112, convertito dalla legge 6 agosto 2008, n. 133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1900" spc="-1" strike="noStrike">
                <a:solidFill>
                  <a:srgbClr val="ff0000"/>
                </a:solidFill>
                <a:latin typeface="Tahoma"/>
              </a:rPr>
              <a:t>DPR n. 89, 15 marzo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1900" spc="-1" strike="noStrike">
                <a:solidFill>
                  <a:srgbClr val="ff0000"/>
                </a:solidFill>
                <a:latin typeface="Tahoma"/>
              </a:rPr>
              <a:t>2010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 recante 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Revisione dell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assetto ordinamentale, organizzativo e didattico dei 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licei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, ai sensi dell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art. 64, comma 4, del decreto legge 25 giugno 2008 n. 112, convertito dalla legge 6 agosto 2008, n. 133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05BD-68C7-44EF-A127-D4711FE28B32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4" name="Segnaposto numero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3640" y="174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innovazioni e nuovi punti di riferimen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38080" y="164304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40458c"/>
                </a:solidFill>
                <a:latin typeface="Tahoma"/>
              </a:rPr>
              <a:t>innovazioni strutturali dei regolamenti di riordino del primo e del secondo ciclo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460080" indent="-460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autonomia e flessibilit</a:t>
            </a:r>
            <a:r>
              <a:rPr b="0" lang="it-IT" sz="2600" spc="-1" strike="noStrike">
                <a:solidFill>
                  <a:srgbClr val="40458c"/>
                </a:solidFill>
                <a:latin typeface="Times New Roman"/>
              </a:rPr>
              <a:t>à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quadro europeo delle qualifiche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dipartimenti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comitato tecnico-scientifico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ufficio tecnico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competenze, abilità, conoscenze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laboratori e laboratorialità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insegnamento in lingua straniera di una disciplina non linguistica (CLIL)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integrazione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0AD5-F806-4D61-9899-571D66CC2601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660066"/>
                </a:solidFill>
                <a:latin typeface="Tahoma"/>
              </a:rPr>
              <a:t>Un punto chiave dei nuovi ordinamenti: la quota di autonomia</a:t>
            </a:r>
            <a:endParaRPr b="0" lang="en-US" sz="3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84240" y="2020680"/>
            <a:ext cx="7556400" cy="44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40458c"/>
                </a:solidFill>
                <a:latin typeface="Times New Roman"/>
              </a:rPr>
              <a:t>…</a:t>
            </a:r>
            <a:r>
              <a:rPr b="1" i="1" lang="it-IT" sz="2500" spc="-1" strike="noStrike">
                <a:solidFill>
                  <a:srgbClr val="40458c"/>
                </a:solidFill>
                <a:latin typeface="Tahoma"/>
              </a:rPr>
              <a:t>le origini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DM n. 234 del 26.06.2000 (regol. art. 8 DPR 275/99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imes New Roman"/>
              </a:rPr>
              <a:t>…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Quota nazionale e quota riservata alle istituzioni scolastiche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85% quota nazionale obbligatoria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15% quota riservata alle scuole da utilizzare per: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Finalit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Nuove discipline; 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personalizzazione dei curricoli; valorizzazione del merito, potenziamento, sostegno e recupero nelle difficolt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di apprendimento; laboratori, educazioni)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0656-5162-4828-9538-F35863BAAE2D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la quota di autonomi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…</a:t>
            </a:r>
            <a:r>
              <a:rPr b="1" i="1" lang="it-IT" sz="2800" spc="-1" strike="noStrike">
                <a:solidFill>
                  <a:srgbClr val="40458c"/>
                </a:solidFill>
                <a:latin typeface="Tahoma"/>
              </a:rPr>
              <a:t>la continuazio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DM 28 dic 2005 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(Ministro Moratti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80% quota nazionale obbligatoria (solo per II Ciclo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20% quota riservata alle scuole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disposizioni estese anche al 1° Ciclo dal </a:t>
            </a:r>
            <a:r>
              <a:rPr b="1" lang="it-IT" sz="2200" spc="-1" strike="noStrike">
                <a:solidFill>
                  <a:srgbClr val="40458c"/>
                </a:solidFill>
                <a:latin typeface="Tahoma"/>
              </a:rPr>
              <a:t>Decreto Ministeriale n. 47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del 13 giugno 2006 (Ministro Fioroni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DPR n. 89 del 20.03.2009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7030a0"/>
                </a:solidFill>
                <a:latin typeface="Times New Roman"/>
              </a:rPr>
              <a:t>“</a:t>
            </a:r>
            <a:r>
              <a:rPr b="0" lang="it-IT" sz="2400" spc="-1" strike="noStrike">
                <a:solidFill>
                  <a:srgbClr val="7030a0"/>
                </a:solidFill>
                <a:latin typeface="Tahoma"/>
              </a:rPr>
              <a:t>Regolamento su Scuola dell</a:t>
            </a:r>
            <a:r>
              <a:rPr b="0" lang="it-IT" sz="2400" spc="-1" strike="noStrike">
                <a:solidFill>
                  <a:srgbClr val="7030a0"/>
                </a:solidFill>
                <a:latin typeface="Times New Roman"/>
              </a:rPr>
              <a:t>’</a:t>
            </a:r>
            <a:r>
              <a:rPr b="0" lang="it-IT" sz="2400" spc="-1" strike="noStrike">
                <a:solidFill>
                  <a:srgbClr val="7030a0"/>
                </a:solidFill>
                <a:latin typeface="Tahoma"/>
              </a:rPr>
              <a:t>infanzia e primo Ciclo di istruzione</a:t>
            </a:r>
            <a:r>
              <a:rPr b="0" lang="it-IT" sz="2400" spc="-1" strike="noStrike">
                <a:solidFill>
                  <a:srgbClr val="7030a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38080" y="171432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40458c"/>
                </a:solidFill>
                <a:uFillTx/>
                <a:latin typeface="Tahoma"/>
              </a:rPr>
              <a:t>Scuola secondaria di I grad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L'orario annuale obbligatorio delle lezioni nella scuola secondaria di I grado e' di complessive 990 ore, corrispondente a 29 ore settimanali, piu' 33 ore annuali da destinare ad attivita' di approfondimento riferita agli insegnamenti di materie letterarie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1748-E224-462B-9EF9-42196701D6E3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5:46:55Z</dcterms:created>
  <dc:creator> </dc:creator>
  <dc:description/>
  <cp:keywords/>
  <dc:language>en-US</dc:language>
  <cp:lastModifiedBy>Valued Acer Customer</cp:lastModifiedBy>
  <dcterms:modified xsi:type="dcterms:W3CDTF">2014-03-19T22:47:06Z</dcterms:modified>
  <cp:revision>27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31040</vt:lpwstr>
  </property>
</Properties>
</file>