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E2449-B258-4FDE-995B-76857E89DFA7}" type="slidenum">
              <a:rPr b="0" lang="it-IT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9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9CF7B-0F51-4B43-9CC7-5FC7B61F9DB4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6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F68A0-FAE3-4005-9F8E-31995440C0B7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9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417AD-6DA7-4138-AD67-72CDB69B2CD7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2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E9668-F7E0-49EF-97C4-44AC42A2BD63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5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42A75-819D-46AB-B43E-1F64428B2D08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8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DC3E1-E4CF-40AC-B4BB-BD6933F2A3B4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11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62EF7-B17F-45D8-B9CF-DC582E062D11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14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8C022-73BB-4694-B794-D3FF96022A07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E3516-D8B5-45DC-8601-E62CD73E148E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20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96BA5-57A8-4DAE-8DEC-F7795180741C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23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627CF-4B73-43EF-AB9B-4F60D835AFC3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72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0CB2C-A17E-4F8A-9983-E36CB4B7395C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26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31DB-8A15-45DB-B504-6C15044334CB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29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55223-5928-4E8B-AD86-1E762FA4359A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2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39414-5796-42C3-9077-9834456CE6C0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5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5757B-6553-49A0-874E-034611834689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CC0D8-A27B-48F9-AC99-CCFF94E4BFED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E6CBE-56FA-43C8-9A99-6F1A3C1EF7EB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766AC-75FF-4E9B-89AB-22C3D5057FE2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7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B91DC-CF09-4207-B02F-EF7FFDF47059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0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189C5-8968-4B3C-98AA-F404DBCEB1EF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3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DDC9A-D296-45C4-8B06-E0962A4146C4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B7E40-C1C1-4A07-81B7-0BE2413E3060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6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F3EAC-709E-48C8-9F15-2FAF69680F96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9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FEDFD-B5D6-4367-8043-7FF0D3B5D590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E1FB5-5BC0-4DD0-A65C-D5CED6B5844C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5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1D85B-9C71-4E0D-B5B7-57927EF416DF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8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D5408-AED5-4B37-8144-150F07BAF042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1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8FDEA-70C3-42E0-B218-A48E79FEE75F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4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BF4B6-EB72-47E5-8A74-D845EFCA498B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55C7C-3293-40D8-8015-B4DD5BF81FEE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0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87F7-4B53-4EE8-8D6C-75BF1D5F5E4C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3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3B8C4-04D2-4ECF-8D2A-9EB626AAA2D6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18FD8-D7B0-4A72-93AF-6F8B0C25A4AB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6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6869F-8289-4A67-8C83-740C55374448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9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3F551-2B14-4620-970A-281C67F7B1DC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92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FBF8-45DD-4C57-9C23-D3E558DDFA35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CBB44-5867-46EE-BEEB-74E220A56B6C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68872-B1ED-43DF-9070-49EE2E4775B9}" type="slidenum">
              <a:rPr b="0" lang="it-IT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5" name="Text Box 2"/>
          <p:cNvSpPr/>
          <p:nvPr/>
        </p:nvSpPr>
        <p:spPr>
          <a:xfrm>
            <a:off x="2124000" y="754200"/>
            <a:ext cx="254952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99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BB76-9372-462D-B53B-2BFC1A32F4D5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02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BB7CF-1ECE-4995-B22F-2EF0614F56D6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05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EF92A-1860-4004-B7AE-03CDBC379FF2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08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34C37-D58C-47B2-BC7E-8C81156B0581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2F9F5-70CD-4CB5-A1FF-D504B041057C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2ADF4-9FF6-4273-8DC3-A61BA26C30DD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D3E36-8A40-4143-986C-193A1329E8CE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5611-70C0-4756-B815-5F958E2F0D4B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3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FDABD-6A1A-4095-90C6-FB2DA9785354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12A3-891D-46A7-8A48-F82B3732B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7B86-3EDE-4E64-9742-D83B1C991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D843-4E96-4AD3-B42E-5402CF93C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5863-09CF-4722-8583-6D9E02040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ACCD3-185D-44EE-BAAF-FF8F40295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F8C02-F4AE-4023-84E5-E8F9D88D5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B7A4C-A460-4300-9901-51BDA908F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72460-2B93-43EC-B4A4-20DC1A6B4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59C5B-C90B-44D8-8367-148B636A0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B5044-3827-4923-A525-8837B0D67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3E501-21FE-4C77-90C7-692DA94D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3421-47DD-45E1-A1E0-E913D925A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26AB8-11AE-4287-A764-16087B85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4EC74-4397-4327-826E-6FC7571B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758A6-B19A-4A4D-8C42-A6DF457AA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CEF27-CCDF-43B7-8CB4-E9ACC1357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F7E09-5068-4DCB-9DC8-1E9E68537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2C38-AE63-4E6C-843C-2E53BAD17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0C8A-FDCE-44C6-AF05-55149A204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8FDD-497C-4698-AC96-490BC0BBE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E9F2-F794-4D71-8C13-18EFECDF2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A2C1-874D-47F9-954F-DD940E96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D82A-ECA9-4320-8AD7-6F126828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D2D7-111C-4F4B-A7E3-A8B13A28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83E56-9CF2-4B94-B8C6-B13755BED3E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102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1027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1028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1029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1030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1031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1032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1033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34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035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036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037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038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039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040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041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042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043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1044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1045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1046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1047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1048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1049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1050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1051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1052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1053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1054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1055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1056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1057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1058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1059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1060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1061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1062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1063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1064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1065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1066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1067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1068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1069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1070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1071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1072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1073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1074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1075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1076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1077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1078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1079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1080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1081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1082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1083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1084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1085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1086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1087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1088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1089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1090"/>
              <p:cNvSpPr/>
              <p:nvPr/>
            </p:nvSpPr>
            <p:spPr>
              <a:xfrm rot="5400000">
                <a:off x="8090640" y="531432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199A4-62FF-4E86-97D0-CD84BEF6FBAD}" type="slidenum"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109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36894-AEF4-417D-9CE9-4653EDD9A183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PAS </a:t>
            </a:r>
            <a:r>
              <a:rPr b="0" i="1" lang="it-IT" sz="2300" spc="-1" strike="noStrike">
                <a:solidFill>
                  <a:srgbClr val="40458c"/>
                </a:solidFill>
                <a:latin typeface="Times New Roman"/>
              </a:rPr>
              <a:t>–</a:t>
            </a: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 Univ. di Pisa</a:t>
            </a:r>
            <a:br>
              <a:rPr sz="2300"/>
            </a:b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Corso di Didattica Generale e Pedagogia Sperimentale</a:t>
            </a:r>
            <a:br>
              <a:rPr sz="2000"/>
            </a:b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A.A. 2013/2014</a:t>
            </a:r>
            <a:br>
              <a:rPr sz="2300"/>
            </a:br>
            <a:br>
              <a:rPr sz="2300"/>
            </a:b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Gli ordinamenti:</a:t>
            </a:r>
            <a:br>
              <a:rPr sz="4400"/>
            </a:br>
            <a:r>
              <a:rPr b="0" lang="it-IT" sz="2700" spc="-1" strike="noStrike">
                <a:solidFill>
                  <a:srgbClr val="4b34f4"/>
                </a:solidFill>
                <a:latin typeface="Tahoma"/>
              </a:rPr>
              <a:t>quadro normativo di riferimento</a:t>
            </a:r>
            <a:r>
              <a:rPr b="0" lang="it-IT" sz="27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27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838080" y="330948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40458c"/>
                </a:solidFill>
                <a:latin typeface="Tahoma"/>
              </a:rPr>
              <a:t>Il sistema educativo di istruzione e formazion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40458c"/>
                </a:solidFill>
                <a:latin typeface="Tahoma"/>
              </a:rPr>
              <a:t>Davide Capperucc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1680" y="78552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u="sng">
                <a:solidFill>
                  <a:srgbClr val="40458c"/>
                </a:solidFill>
                <a:uFillTx/>
                <a:latin typeface="Tahoma"/>
              </a:rPr>
              <a:t>Scuola secondaria di I grado</a:t>
            </a:r>
            <a:br>
              <a:rPr sz="60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838080" y="1499760"/>
            <a:ext cx="77724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Nel tempo prolungato il monte ore e' determinato mediamente in 36 ore settimanali, elevabili fino a 40, comprensive delle ore destinate agli insegnamenti e alle attivita' e al tempo dedicato alla mens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Le classi a «tempo prolungato» sono autorizzate nei limiti della dotazione organica assegnata a ciascuna provinci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7F8B7-D22D-4525-9123-EFC7F05C8ECB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40458c"/>
                </a:solidFill>
                <a:latin typeface="Tahoma"/>
              </a:rPr>
              <a:t>Corsi ad indirizzo musicale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I corsi ad indirizzo musicale si svolgono oltre l'orario obbligatorio delle lezion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Valorizzazione dell'apprendimento pratico, anche con l'ausilio di laboratori musicali, nei limiti delle risorse esistenti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8F4C9-8A7D-485A-8821-24FD7C273208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Inglese potenzia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838080" y="1643040"/>
            <a:ext cx="777240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A decorrere dall'anno scolastico 2009/2010, a richiesta delle famiglie e compatibilmente con le disponibilita' di organico e l'assenza di esubero dei docenti della seconda lingua comunitaria, e‘ introdotto l'insegnamento dell'inglese potenziato anche utilizzando le 2 ore di insegnamento della seconda lingua comunitari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B6E50-4C45-422D-BD95-6CBC7CC3224B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7030a0"/>
                </a:solidFill>
                <a:latin typeface="Tahoma"/>
              </a:rPr>
              <a:t>Seconda lingua comunitaria per Italiano L2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Le ore della seconda lingua comunitaria sono utilizzate anche per potenziare l'insegnamento della lingua italiana per gli alunni stranieri non in possesso delle necessarie conoscenze e competenze nella medesima lingua italiana nel rispetto dell'autonomia delle scuo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B52BE-02B8-4ED2-8B41-E5EF51394617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61D3-CFC0-4272-B2BB-7F7EF20EA8E6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1680" y="49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Riordino secondaria II grado: </a:t>
            </a:r>
            <a:br>
              <a:rPr sz="3100"/>
            </a:b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autonomia - flessibilit</a:t>
            </a:r>
            <a:r>
              <a:rPr b="0" lang="it-IT" sz="3100" spc="-1" strike="noStrike">
                <a:solidFill>
                  <a:srgbClr val="660066"/>
                </a:solidFill>
                <a:latin typeface="Times New Roman"/>
              </a:rPr>
              <a:t>à</a:t>
            </a: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 - quote</a:t>
            </a:r>
            <a:br>
              <a:rPr sz="3100"/>
            </a:br>
            <a:endParaRPr b="0" lang="en-US" sz="31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55640" y="1500120"/>
            <a:ext cx="7696080" cy="45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40458c"/>
                </a:solidFill>
                <a:latin typeface="Tahoma"/>
              </a:rPr>
              <a:t>Istituti tecnici e professionali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Quota di autonomia</a:t>
            </a:r>
            <a:r>
              <a:rPr b="1" lang="it-IT" sz="2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20% dei curricoli (per tutto il quinquennio) per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- potenziare gli insegnamenti obbligatori per tutti gli student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- attivare ulteriori insegnament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Vincoli: Contingente di organico assegnato annualment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Calcolo su orario complessivo delle lezioni del primo biennio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Calcolo su orario complessivo delle lezioni del successivo 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triennio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Ciascuna disciplina non può essere decurtata per pi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ù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del 20%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previsto dai quadri orario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3BECC-7D15-4B8C-8886-0BF8014E2083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Con il riordino: autonomia </a:t>
            </a:r>
            <a:r>
              <a:rPr b="0" lang="it-IT" sz="3100" spc="-1" strike="noStrike">
                <a:solidFill>
                  <a:srgbClr val="660066"/>
                </a:solidFill>
                <a:latin typeface="Times New Roman"/>
              </a:rPr>
              <a:t>–</a:t>
            </a: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 flessibilit</a:t>
            </a:r>
            <a:r>
              <a:rPr b="0" lang="it-IT" sz="3100" spc="-1" strike="noStrike">
                <a:solidFill>
                  <a:srgbClr val="660066"/>
                </a:solidFill>
                <a:latin typeface="Times New Roman"/>
              </a:rPr>
              <a:t>à</a:t>
            </a: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 - quote</a:t>
            </a:r>
            <a:br>
              <a:rPr sz="3100"/>
            </a:br>
            <a:endParaRPr b="0" lang="en-US" sz="31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643040"/>
            <a:ext cx="777240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Lice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40458c"/>
                </a:solidFill>
                <a:latin typeface="Tahoma"/>
              </a:rPr>
              <a:t>Quota dei piani di studio rimessa alle singole istituzioni scolastiche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Fino al</a:t>
            </a:r>
            <a:r>
              <a:rPr b="1" lang="it-IT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ff0000"/>
                </a:solidFill>
                <a:latin typeface="Tahoma"/>
              </a:rPr>
              <a:t>20%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del monte ore complessivo nel primo biennio,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Fino al </a:t>
            </a:r>
            <a:r>
              <a:rPr b="1" lang="it-IT" sz="1600" spc="-1" strike="noStrike">
                <a:solidFill>
                  <a:srgbClr val="ff0000"/>
                </a:solidFill>
                <a:latin typeface="Tahoma"/>
              </a:rPr>
              <a:t>30%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nel secondo biennio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Fino </a:t>
            </a:r>
            <a:r>
              <a:rPr b="1" lang="it-IT" sz="1600" spc="-1" strike="noStrike">
                <a:solidFill>
                  <a:srgbClr val="ff0000"/>
                </a:solidFill>
                <a:latin typeface="Tahoma"/>
              </a:rPr>
              <a:t>20%</a:t>
            </a:r>
            <a:r>
              <a:rPr b="1" lang="it-IT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nel quinto anno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Vincoli: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- contingente di organico ad esse annualmente assegnato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- richieste degli studenti e delle loro famiglie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- orario previsto dal piano di studio di ciascuna disciplina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non può essere ridotto in misura  superiore a 1/3 nell'arco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dei cinque anni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- non possono essere soppresse le discipline previste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nell'ultimo anno di corso nei piani di studio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F0624-BC63-4A8D-9129-1FFF4757D305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Con il riordino: autonomia</a:t>
            </a:r>
            <a:r>
              <a:rPr b="0" lang="it-IT" sz="3100" spc="-1" strike="noStrike">
                <a:solidFill>
                  <a:srgbClr val="660066"/>
                </a:solidFill>
                <a:latin typeface="Times New Roman"/>
              </a:rPr>
              <a:t>–</a:t>
            </a: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flessibilit</a:t>
            </a:r>
            <a:r>
              <a:rPr b="0" lang="it-IT" sz="3100" spc="-1" strike="noStrike">
                <a:solidFill>
                  <a:srgbClr val="660066"/>
                </a:solidFill>
                <a:latin typeface="Times New Roman"/>
              </a:rPr>
              <a:t>à</a:t>
            </a: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 - </a:t>
            </a: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quote</a:t>
            </a:r>
            <a:br>
              <a:rPr sz="3100"/>
            </a:br>
            <a:endParaRPr b="0" lang="en-US" sz="31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7896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40458c"/>
                </a:solidFill>
                <a:latin typeface="Tahoma"/>
              </a:rPr>
              <a:t>Spazi di flessibilit</a:t>
            </a:r>
            <a:r>
              <a:rPr b="1" lang="it-IT" sz="1500" spc="-1" strike="noStrike">
                <a:solidFill>
                  <a:srgbClr val="40458c"/>
                </a:solidFill>
                <a:latin typeface="Times New Roman"/>
              </a:rPr>
              <a:t>à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Finalit</a:t>
            </a:r>
            <a:r>
              <a:rPr b="0" lang="it-IT" sz="15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:</a:t>
            </a:r>
            <a:r>
              <a:rPr b="1" lang="it-IT" sz="15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- possibilit</a:t>
            </a:r>
            <a:r>
              <a:rPr b="0" lang="it-IT" sz="15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 di articolare in </a:t>
            </a:r>
            <a:r>
              <a:rPr b="1" lang="it-IT" sz="1500" spc="-1" strike="noStrike">
                <a:solidFill>
                  <a:srgbClr val="40458c"/>
                </a:solidFill>
                <a:latin typeface="Tahoma"/>
              </a:rPr>
              <a:t>opzioni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 le aree di indirizzo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- corrispondere alle esigenze del territorio e ai fabbisogni formativi espressi dal mondo del lavoro e delle professioni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Consistenza: 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40458c"/>
                </a:solidFill>
                <a:latin typeface="Tahoma"/>
              </a:rPr>
              <a:t>istituti tecnici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:  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con riferimento all'orario annuale delle lezioni: 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entro il 30% nel secondo biennio 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entro il 35% nell'ultimo anno;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40458c"/>
                </a:solidFill>
                <a:latin typeface="Tahoma"/>
              </a:rPr>
              <a:t>Istituti professionali: 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40458c"/>
                </a:solidFill>
                <a:latin typeface="Tahoma"/>
              </a:rPr>
              <a:t>a) 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con riferimento all'orario annuale delle lezioni, 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entro il 35% nel secondo biennio 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entro il 40% nell'ultimo anno;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1" lang="it-IT" sz="1500" spc="-1" strike="noStrike">
                <a:solidFill>
                  <a:srgbClr val="40458c"/>
                </a:solidFill>
                <a:latin typeface="Tahoma"/>
              </a:rPr>
              <a:t>b) 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nel primo biennio entro il 25% dell'orario annuale delle lezioni per svolgere un ruolo integrativo e complementare rispetto al sistema dell'istruzione e della formazione professionale regionale.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Nei regolamenti sono previsti elenchi nazionali per l</a:t>
            </a:r>
            <a:r>
              <a:rPr b="0" lang="it-IT" sz="15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attivazione di opzioni.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40907-1C3E-4BD3-AE45-B577C4C63E20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8" name="Segnaposto numero diapositiva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European Qualifications Framework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40458c"/>
                </a:solidFill>
                <a:latin typeface="Tahoma"/>
              </a:rPr>
              <a:t>Cornice europea di riferimento ad otto livelli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446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40458c"/>
                </a:solidFill>
                <a:latin typeface="Tahoma"/>
              </a:rPr>
              <a:t>descritti in termini di competenze (non di titoli)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446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44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700" spc="-1" strike="noStrike">
                <a:solidFill>
                  <a:srgbClr val="40458c"/>
                </a:solidFill>
                <a:latin typeface="Tahoma"/>
              </a:rPr>
              <a:t>La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Raccomandazione del Parlamento e del Consiglio Europeo del 23 aprile 2008 relativa al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adozione del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EQF a livello comunitario, stabilisce che entro il 2010 i paesi membri dovranno rapportare i propri sistemi nazionali di qualificazione al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EQF,ed entro il 2012 dovranno indicare, nei singoli certificati di qualifica, un riferimento al livello corrispondente del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EQF.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46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446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700" spc="-1" strike="noStrike">
                <a:solidFill>
                  <a:srgbClr val="40458c"/>
                </a:solidFill>
                <a:latin typeface="Tahoma"/>
              </a:rPr>
              <a:t>per quanto riguarda l</a:t>
            </a:r>
            <a:r>
              <a:rPr b="0" i="1" lang="it-IT" sz="17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i="1" lang="it-IT" sz="1700" spc="-1" strike="noStrike">
                <a:solidFill>
                  <a:srgbClr val="40458c"/>
                </a:solidFill>
                <a:latin typeface="Tahoma"/>
              </a:rPr>
              <a:t>ordinamento italiano: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446040" indent="-446040">
              <a:lnSpc>
                <a:spcPct val="80000"/>
              </a:lnSpc>
              <a:spcBef>
                <a:spcPts val="425"/>
              </a:spcBef>
              <a:buSzPct val="11309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40458c"/>
                </a:solidFill>
                <a:latin typeface="Tahoma"/>
              </a:rPr>
              <a:t>EQF1 = diploma del 1° Ciclo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446040" indent="-446040">
              <a:lnSpc>
                <a:spcPct val="80000"/>
              </a:lnSpc>
              <a:spcBef>
                <a:spcPts val="425"/>
              </a:spcBef>
              <a:buSzPct val="11309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40458c"/>
                </a:solidFill>
                <a:latin typeface="Tahoma"/>
              </a:rPr>
              <a:t>EQF2 = obbligo di istruzione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446040" indent="-446040">
              <a:lnSpc>
                <a:spcPct val="80000"/>
              </a:lnSpc>
              <a:spcBef>
                <a:spcPts val="425"/>
              </a:spcBef>
              <a:buSzPct val="11309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40458c"/>
                </a:solidFill>
                <a:latin typeface="Tahoma"/>
              </a:rPr>
              <a:t>EQF3 = qualifica professionale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446040" indent="-446040">
              <a:lnSpc>
                <a:spcPct val="80000"/>
              </a:lnSpc>
              <a:spcBef>
                <a:spcPts val="425"/>
              </a:spcBef>
              <a:buSzPct val="11309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40458c"/>
                </a:solidFill>
                <a:latin typeface="Tahoma"/>
              </a:rPr>
              <a:t>EQF4 = diploma del 2° Ciclo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lvl="4" marL="19544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3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40458c"/>
                </a:solidFill>
                <a:latin typeface="Tahoma"/>
              </a:rPr>
              <a:t>vedi DM 139/2007 (allegato tecnico)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3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40458c"/>
                </a:solidFill>
                <a:latin typeface="Tahoma"/>
              </a:rPr>
              <a:t>DPR n. 122 del 22 giugno 2009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446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EE789-E285-4A62-B77B-691561CAEEA2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Strumenti per le innovazioni: i dipartimenti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lang="it-IT" sz="3000" spc="-1" strike="noStrike">
                <a:solidFill>
                  <a:srgbClr val="40458c"/>
                </a:solidFill>
                <a:latin typeface="Times New Roman"/>
              </a:rPr>
              <a:t>(si) </a:t>
            </a:r>
            <a:r>
              <a:rPr b="0" i="1" lang="it-IT" sz="3000" spc="-1" strike="noStrike">
                <a:solidFill>
                  <a:srgbClr val="40458c"/>
                </a:solidFill>
                <a:latin typeface="Tahoma"/>
              </a:rPr>
              <a:t>possono costituire, senza nuovi o maggiori oneri per la finanza pubblica, dipartimenti, quali articolazioni funzionali del collegio dei docenti, per il sostegno alla progettazione formativa e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3000" spc="-1" strike="noStrike">
                <a:solidFill>
                  <a:srgbClr val="40458c"/>
                </a:solidFill>
                <a:latin typeface="Tahoma"/>
              </a:rPr>
              <a:t>alla didattica</a:t>
            </a:r>
            <a:r>
              <a:rPr b="0" i="1" lang="it-IT" sz="30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3A73A-EDB5-40DE-80E9-E74C86CF0FBF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i dipartiment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Nei regolamenti non vengono date indicazioni sulle modalit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organizzativ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Ipotesi possibil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organizzazione per assi culturali (secondo le indicazioni dell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obbligo di istruzion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I dipartimenti sono funzionali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lla progettazione per competenze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lla progettazione multidisciplinare e, per questo, di percorsi per il conseguimento delle competenze di cittadinanza come individuate in sede U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F6F01-764D-43E1-B024-CC0ADFD99D17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500" spc="-1" strike="noStrike">
                <a:solidFill>
                  <a:srgbClr val="660066"/>
                </a:solidFill>
                <a:latin typeface="Tahoma"/>
              </a:rPr>
              <a:t>Gli ordinamenti</a:t>
            </a:r>
            <a:endParaRPr b="0" lang="en-US" sz="45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229600" cy="45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❒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	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“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Testo unico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”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 delle leggi sull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’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istruzione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”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D.Lgs. 297/1994 (dall’art. 5 all’art. 15)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❒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“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Delega al Governo per il conferimento di funzioni alle regioni e agli Enti locali per la riforma della PA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”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Legge n. 59/97 (art. 21)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❒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	</a:t>
            </a:r>
            <a:r>
              <a:rPr b="1" lang="en-US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 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“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Conferimento di funzioni alle Regioni e agli Enti locali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”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artt. 137, 138, 139,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Arial Unicode MS"/>
              </a:rPr>
              <a:t>D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.Lgs 112/98)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❒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	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“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Regolamento dell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’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autonomia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”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 in attuazione dell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’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art. 21 della L. 59/97), 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DPR 275/99 (artt. 1, 3, 4, 5, 6, 7, 8, 9, 11, 14)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❒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Legge Costituzionale n. 3/2001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 (Titolo V, artt. 114,116, 117, 118),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❒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	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  <a:ea typeface="Arial Unicode MS"/>
              </a:rPr>
              <a:t>Riforma Moratti: 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Legge 53/2003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 e Decreti Legislativi</a:t>
            </a:r>
            <a:br>
              <a:rPr sz="1800"/>
            </a:b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 (sul primo ciclo, n. 59/04; su INVALSI, n. 286/04; su diritto-dovere a istruzione e formazione, n. 76/05; su alternanza scuola-lavoro, n. 77/05; sul secondo ciclo, n. 226/05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❒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	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innalzamento obbligo di istruzione, 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  <a:ea typeface="Arial Unicode MS"/>
              </a:rPr>
              <a:t>DM n. 139/2007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 </a:t>
            </a:r>
            <a:br>
              <a:rPr sz="1800"/>
            </a:b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(in attuazione comma 622 legge 296/06)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949A1-C6B8-482F-8C3D-0B9BD8A90B88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Strumenti per le innovazioni: il Comitato tecnico scientifico 1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40458c"/>
                </a:solidFill>
                <a:latin typeface="Times New Roman"/>
              </a:rPr>
              <a:t>…”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possono dotarsi, senza nuovi o maggiori oneri per la finanza pubblica, di un comitato (tecnico) scientifico composto di docenti e di esperti del mondo del lavoro, delle professioni, della ricerca scientifica e tecnologica, delle universit</a:t>
            </a:r>
            <a:r>
              <a:rPr b="0" i="1" lang="it-IT" sz="2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 e delle istituzioni di alta formazione artistica, musicale e coreutica, con funzioni </a:t>
            </a:r>
            <a:r>
              <a:rPr b="0" i="1" lang="it-IT" sz="2400" spc="-1" strike="noStrike">
                <a:solidFill>
                  <a:srgbClr val="ff0066"/>
                </a:solidFill>
                <a:latin typeface="Tahoma"/>
              </a:rPr>
              <a:t>consultive e di proposta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 per l</a:t>
            </a:r>
            <a:r>
              <a:rPr b="0" i="1" lang="it-IT" sz="24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i="1" lang="it-IT" sz="2400" spc="-1" strike="noStrike">
                <a:solidFill>
                  <a:srgbClr val="ff0000"/>
                </a:solidFill>
                <a:latin typeface="Tahoma"/>
              </a:rPr>
              <a:t>organizzazione e l'utilizzazione degli spazi di autonomia e flessibilit</a:t>
            </a: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à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 ; ai componenti del comitato non spettano compensi a nessun titolo</a:t>
            </a:r>
            <a:r>
              <a:rPr b="0" i="1" lang="it-IT" sz="24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6C4C1-1C6D-4226-9801-CBD2C26C5F24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Comitato tecnico scientifico 2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40458c"/>
                </a:solidFill>
                <a:latin typeface="Tahoma"/>
              </a:rPr>
              <a:t>Il Comitato tecnico scientific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Fa proposte, sulla scorta delle analisi dei bisogni del territorio, al consiglio di istituto, al dirigente e, per le materie di sua competenza, al collegio dei docenti  per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l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utilizzazione degli spazi di autonomia e flessibilit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à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l'organizzazione delle aree di indirizz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C16F5-04E0-4E0A-864B-50E712E31DEB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Comitato tecnico scientifico 3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992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575"/>
              </a:spcBef>
              <a:buSzPct val="15747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il recupero della centralit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 dei laboratori anche come metodologia di base per tutte le discipline;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buSzPct val="15747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la centralit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 delle forme miste nei percorsi di studio: stage, tirocini, alternanza scuola-lavoro, non 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aggiuntivi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 alle lezioni e ai laboratori, ma integrate nel curricolo;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buSzPct val="15747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l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organizzazione in dipartimenti, fondamentale se si vuole realizzare una progettazione formativa per competenze, che richiede livelli elevati di ricerca e di progettazione. I dipartimenti dovrebbero supportare il lavoro dei docenti e dei consigli di classe, fornendo metodologie e strumenti di lavoro;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buSzPct val="15747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la possibilit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 per ogni istituto di stipulare contratti con esperti esterni per sviluppare competenze specialistiche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03B2A-2C54-4397-96F2-B6312F2D2D76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L</a:t>
            </a:r>
            <a:r>
              <a:rPr b="0" lang="it-IT" sz="4400" spc="-1" strike="noStrike">
                <a:solidFill>
                  <a:srgbClr val="660066"/>
                </a:solidFill>
                <a:latin typeface="Times New Roman"/>
              </a:rPr>
              <a:t>’</a:t>
            </a: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ufficio tecn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24"/>
              </a:spcBef>
              <a:buSzPct val="14480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Gli istituti professionali per il settore industria ed artigianato e gli istituti tecnici per il settore tecnologico sono dotati di un ufficio tecnico con il compito di sostenere la migliore organizzazione e funzionalit</a:t>
            </a:r>
            <a:r>
              <a:rPr b="0" lang="it-IT" sz="25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 dei laboratori a fini didattici e il loro adeguamento in relazione alle esigenze poste dall</a:t>
            </a:r>
            <a:r>
              <a:rPr b="0" lang="it-IT" sz="25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innovazione tecnologica nonch</a:t>
            </a:r>
            <a:r>
              <a:rPr b="0" lang="it-IT" sz="2500" spc="-1" strike="noStrike">
                <a:solidFill>
                  <a:srgbClr val="40458c"/>
                </a:solidFill>
                <a:latin typeface="Times New Roman"/>
              </a:rPr>
              <a:t>é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 per la sicurezza delle persone e dell</a:t>
            </a:r>
            <a:r>
              <a:rPr b="0" lang="it-IT" sz="25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ambiente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624"/>
              </a:spcBef>
              <a:buSzPct val="14480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Si apre una possibilit</a:t>
            </a:r>
            <a:r>
              <a:rPr b="0" lang="it-IT" sz="25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 concreta di costruire archivi di esperienze didattiche innovative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D4E2A-DD6A-4A33-8555-BF1319B16454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0" name="Segnaposto numero diapositiva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660066"/>
                </a:solidFill>
                <a:latin typeface="Tahoma"/>
              </a:rPr>
              <a:t>Competenze, abilit</a:t>
            </a:r>
            <a:r>
              <a:rPr b="0" lang="it-IT" sz="2900" spc="-1" strike="noStrike">
                <a:solidFill>
                  <a:srgbClr val="660066"/>
                </a:solidFill>
                <a:latin typeface="Times New Roman"/>
              </a:rPr>
              <a:t>à</a:t>
            </a:r>
            <a:r>
              <a:rPr b="0" lang="it-IT" sz="2900" spc="-1" strike="noStrike">
                <a:solidFill>
                  <a:srgbClr val="660066"/>
                </a:solidFill>
                <a:latin typeface="Tahoma"/>
              </a:rPr>
              <a:t>, conoscenze</a:t>
            </a:r>
            <a:endParaRPr b="0" lang="en-US" sz="29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020600" y="1714680"/>
            <a:ext cx="7554960" cy="42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41360" indent="-441360">
              <a:lnSpc>
                <a:spcPct val="90000"/>
              </a:lnSpc>
              <a:spcBef>
                <a:spcPts val="624"/>
              </a:spcBef>
              <a:buSzPct val="11321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competenze: </a:t>
            </a:r>
            <a:r>
              <a:rPr b="0" i="1" lang="it-IT" sz="2500" spc="-1" strike="noStrike">
                <a:solidFill>
                  <a:srgbClr val="40458c"/>
                </a:solidFill>
                <a:latin typeface="Tahoma"/>
              </a:rPr>
              <a:t>comprovata capacit</a:t>
            </a:r>
            <a:r>
              <a:rPr b="0" i="1" lang="it-IT" sz="25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i="1" lang="it-IT" sz="2500" spc="-1" strike="noStrike">
                <a:solidFill>
                  <a:srgbClr val="40458c"/>
                </a:solidFill>
                <a:latin typeface="Tahoma"/>
              </a:rPr>
              <a:t> di usare conoscenze ed abilit</a:t>
            </a:r>
            <a:r>
              <a:rPr b="0" i="1" lang="it-IT" sz="25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i="1" lang="it-IT" sz="2500" spc="-1" strike="noStrike">
                <a:solidFill>
                  <a:srgbClr val="40458c"/>
                </a:solidFill>
                <a:latin typeface="Tahoma"/>
              </a:rPr>
              <a:t> in modo autonomo in situazioni di lavoro o di studio e nello sviluppo personale o professionale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441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441360" indent="-441360">
              <a:lnSpc>
                <a:spcPct val="90000"/>
              </a:lnSpc>
              <a:spcBef>
                <a:spcPts val="624"/>
              </a:spcBef>
              <a:buSzPct val="11321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abilit</a:t>
            </a:r>
            <a:r>
              <a:rPr b="0" lang="it-IT" sz="25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: </a:t>
            </a:r>
            <a:r>
              <a:rPr b="0" i="1" lang="it-IT" sz="2500" spc="-1" strike="noStrike">
                <a:solidFill>
                  <a:srgbClr val="40458c"/>
                </a:solidFill>
                <a:latin typeface="Tahoma"/>
              </a:rPr>
              <a:t>capacit</a:t>
            </a:r>
            <a:r>
              <a:rPr b="0" i="1" lang="it-IT" sz="25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i="1" lang="it-IT" sz="2500" spc="-1" strike="noStrike">
                <a:solidFill>
                  <a:srgbClr val="40458c"/>
                </a:solidFill>
                <a:latin typeface="Tahoma"/>
              </a:rPr>
              <a:t> di applicare conoscenze per portare a termine compiti e risolvere problemi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441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441360" indent="-441360">
              <a:lnSpc>
                <a:spcPct val="90000"/>
              </a:lnSpc>
              <a:spcBef>
                <a:spcPts val="624"/>
              </a:spcBef>
              <a:buSzPct val="11321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conoscenze: </a:t>
            </a:r>
            <a:r>
              <a:rPr b="0" i="1" lang="it-IT" sz="2500" spc="-1" strike="noStrike">
                <a:solidFill>
                  <a:srgbClr val="40458c"/>
                </a:solidFill>
                <a:latin typeface="Tahoma"/>
              </a:rPr>
              <a:t>fatti, principi, teorie relativi al settore di studio o di lavoro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441360" indent="0" algn="r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  <a:p>
            <a:pPr marL="441360" indent="0" algn="r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  <a:p>
            <a:pPr marL="441360" indent="0" algn="r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300" spc="-1" strike="noStrike">
                <a:solidFill>
                  <a:srgbClr val="40458c"/>
                </a:solidFill>
                <a:latin typeface="Tahoma"/>
              </a:rPr>
              <a:t>riferimento: decreto ministeriale n. 139/07</a:t>
            </a:r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498EB-57E9-4C1B-A794-F0B89D9BE743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4" name="Segnaposto numero diapositiva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660066"/>
                </a:solidFill>
                <a:latin typeface="Tahoma"/>
              </a:rPr>
              <a:t>obbligo di istruzione: </a:t>
            </a:r>
            <a:br>
              <a:rPr sz="4200"/>
            </a:br>
            <a:r>
              <a:rPr b="0" lang="it-IT" sz="4200" spc="-1" strike="noStrike">
                <a:solidFill>
                  <a:srgbClr val="660066"/>
                </a:solidFill>
                <a:latin typeface="Tahoma"/>
              </a:rPr>
              <a:t>gli assi culturali</a:t>
            </a:r>
            <a:endParaRPr b="0" lang="en-US" sz="4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77724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sono 4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asse dei linguaggi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78720" indent="-38736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lingua madre, lingua straniera, multimedi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asse matematic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78720" indent="-38736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aritmetica, algebra, geometria, rappresentazioni grafiche, </a:t>
            </a:r>
            <a:r>
              <a:rPr b="0" i="1" lang="it-IT" sz="2000" spc="-1" strike="noStrike">
                <a:solidFill>
                  <a:srgbClr val="40458c"/>
                </a:solidFill>
                <a:latin typeface="Tahoma"/>
              </a:rPr>
              <a:t>problem solving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asse scientifico-tecnologic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78720" indent="-38736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scienze naturali, trasformazioni di energia, rapporti fra tecnologie ed ambiente, applicazioni informatich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asse storico-social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78720" indent="-38736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storia, economia, cittadinanz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78720" indent="0" algn="r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300" spc="-1" strike="noStrike">
                <a:solidFill>
                  <a:srgbClr val="40458c"/>
                </a:solidFill>
                <a:latin typeface="Tahoma"/>
              </a:rPr>
              <a:t>riferimento: decreto ministeriale n. 139/07</a:t>
            </a:r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  <a:p>
            <a:pPr lvl="2" marL="1278720" indent="0" algn="r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B8D22-A203-4921-9D34-9FBBEF92CB46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8" name="Segnaposto numero diapositiva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660066"/>
                </a:solidFill>
                <a:latin typeface="Tahoma"/>
              </a:rPr>
              <a:t>raccomandazioni europee:</a:t>
            </a:r>
            <a:br>
              <a:rPr sz="4200"/>
            </a:br>
            <a:r>
              <a:rPr b="0" lang="it-IT" sz="4200" spc="-1" strike="noStrike">
                <a:solidFill>
                  <a:srgbClr val="660066"/>
                </a:solidFill>
                <a:latin typeface="Tahoma"/>
              </a:rPr>
              <a:t>le competenze chiave</a:t>
            </a:r>
            <a:endParaRPr b="0" lang="en-US" sz="4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6760" y="2160720"/>
            <a:ext cx="6929280" cy="38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17960" indent="-417960">
              <a:lnSpc>
                <a:spcPct val="80000"/>
              </a:lnSpc>
              <a:spcBef>
                <a:spcPts val="575"/>
              </a:spcBef>
              <a:buSzPct val="11326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comunicazione nella madrelingua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417960" indent="-417960">
              <a:lnSpc>
                <a:spcPct val="80000"/>
              </a:lnSpc>
              <a:spcBef>
                <a:spcPts val="575"/>
              </a:spcBef>
              <a:buSzPct val="11326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comunicazione nelle lingue straniere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417960" indent="-417960">
              <a:lnSpc>
                <a:spcPct val="80000"/>
              </a:lnSpc>
              <a:spcBef>
                <a:spcPts val="575"/>
              </a:spcBef>
              <a:buSzPct val="11326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competenza matematica e competenze di  base scientifiche e tecnologiche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417960" indent="-417960">
              <a:lnSpc>
                <a:spcPct val="80000"/>
              </a:lnSpc>
              <a:spcBef>
                <a:spcPts val="575"/>
              </a:spcBef>
              <a:spcAft>
                <a:spcPts val="862"/>
              </a:spcAft>
              <a:buSzPct val="11326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competenza digitale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417960" indent="-417960">
              <a:lnSpc>
                <a:spcPct val="80000"/>
              </a:lnSpc>
              <a:spcBef>
                <a:spcPts val="575"/>
              </a:spcBef>
              <a:buSzPct val="11326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imparare ad imparare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417960" indent="-417960">
              <a:lnSpc>
                <a:spcPct val="80000"/>
              </a:lnSpc>
              <a:spcBef>
                <a:spcPts val="575"/>
              </a:spcBef>
              <a:buSzPct val="11326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competenze sociali e civiche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417960" indent="-417960">
              <a:lnSpc>
                <a:spcPct val="80000"/>
              </a:lnSpc>
              <a:spcBef>
                <a:spcPts val="575"/>
              </a:spcBef>
              <a:buSzPct val="11326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senso di iniziativa ed imprenditorialit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à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417960" indent="-417960">
              <a:lnSpc>
                <a:spcPct val="80000"/>
              </a:lnSpc>
              <a:spcBef>
                <a:spcPts val="575"/>
              </a:spcBef>
              <a:buSzPct val="11326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consapevolezza ed espressione culturali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41796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417960" indent="-417960">
              <a:lnSpc>
                <a:spcPct val="80000"/>
              </a:lnSpc>
              <a:spcBef>
                <a:spcPts val="575"/>
              </a:spcBef>
              <a:buSzPct val="11326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le prime quattro sono legate ai saperi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417960" indent="-417960">
              <a:lnSpc>
                <a:spcPct val="80000"/>
              </a:lnSpc>
              <a:spcBef>
                <a:spcPts val="575"/>
              </a:spcBef>
              <a:buSzPct val="11326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le altre quattro al saper essere e saper fare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FCE3F-4BF8-49CF-AC3E-F82CE82EEBC6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660066"/>
                </a:solidFill>
                <a:latin typeface="Tahoma"/>
              </a:rPr>
              <a:t>Allegato 2 del regolamento DM 139/2007</a:t>
            </a:r>
            <a:br>
              <a:rPr sz="3300"/>
            </a:br>
            <a:r>
              <a:rPr b="0" lang="it-IT" sz="3300" spc="-1" strike="noStrike">
                <a:solidFill>
                  <a:srgbClr val="660066"/>
                </a:solidFill>
                <a:latin typeface="Tahoma"/>
              </a:rPr>
              <a:t>Le competenze di cittadinanza</a:t>
            </a:r>
            <a:endParaRPr b="0" lang="en-US" sz="33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0458c"/>
                </a:solidFill>
                <a:latin typeface="Tahoma"/>
              </a:rPr>
              <a:t>Imparare ad imparar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: organizzare il proprio apprendimento, individuando, scegliendo ed utilizzando varie fonti e varie modalit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di informazione e di formazione (formale, non formale ed informale), anche in funzione dei tempi disponibili, delle proprie strategie e del proprio metodo di studio e di lavoro.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 </a:t>
            </a:r>
            <a:r>
              <a:rPr b="1" lang="it-IT" sz="1400" spc="-1" strike="noStrike">
                <a:solidFill>
                  <a:srgbClr val="40458c"/>
                </a:solidFill>
                <a:latin typeface="Tahoma"/>
              </a:rPr>
              <a:t>Progettar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: elaborare e realizzare progetti riguardanti lo sviluppo delle proprie attivit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di studio e di lavoro, utilizzando le conoscenze apprese per stabilire obiettivi significativi e realistici e le relative priorit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, valutando i vincoli e le possibilit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esistenti, definendo strategie di azione e verificando i risultati raggiunti.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0458c"/>
                </a:solidFill>
                <a:latin typeface="Tahoma"/>
              </a:rPr>
              <a:t>Comunicare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o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     </a:t>
            </a:r>
            <a:r>
              <a:rPr b="0" i="1" lang="it-IT" sz="1400" spc="-1" strike="noStrike">
                <a:solidFill>
                  <a:srgbClr val="40458c"/>
                </a:solidFill>
                <a:latin typeface="Tahoma"/>
              </a:rPr>
              <a:t>comprender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messaggi di genere diverso (quotidiano, letterario, tecnico, scientifico) e di complessit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diversa, trasmessi utilizzando linguaggi diversi (verbale, matematico, scientifico, simbolico, ecc.) mediante diversi supporti (cartacei, informatici e multimediali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o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i="1" lang="it-IT" sz="1400" spc="-1" strike="noStrike">
                <a:solidFill>
                  <a:srgbClr val="40458c"/>
                </a:solidFill>
                <a:latin typeface="Tahoma"/>
              </a:rPr>
              <a:t>rappresentar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eventi, fenomeni, principi, concetti, norme, procedure, atteggiamenti, stati d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animo, emozioni, ecc. utilizzando linguaggi diversi (verbale, matematico, scientifico, simbolico, ecc.) e diverse conoscenze disciplinari, mediante diversi supporti (cartacei, informatici e multimediali).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0458c"/>
                </a:solidFill>
                <a:latin typeface="Tahoma"/>
              </a:rPr>
              <a:t>Collaborare e partecipare:</a:t>
            </a:r>
            <a:r>
              <a:rPr b="0" i="1" lang="it-IT" sz="1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interagire in gruppo, comprendendo i diversi punti di vista, valorizzando le proprie e le altrui capacit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, gestendo la conflittualit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, contribuendo all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apprendimento comune ed alla realizzazione delle attivit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collettive, nel riconoscimento dei diritti fondamentali degli altri.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375A3-A294-48C8-ABB2-2B468E3B0337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660066"/>
                </a:solidFill>
                <a:latin typeface="Tahoma"/>
              </a:rPr>
              <a:t>Allegato 2 del regolamento DM 139/2007</a:t>
            </a:r>
            <a:br>
              <a:rPr sz="3300"/>
            </a:br>
            <a:r>
              <a:rPr b="0" lang="it-IT" sz="3300" spc="-1" strike="noStrike">
                <a:solidFill>
                  <a:srgbClr val="660066"/>
                </a:solidFill>
                <a:latin typeface="Tahoma"/>
              </a:rPr>
              <a:t>Le competenze di cittadinanza</a:t>
            </a:r>
            <a:endParaRPr b="0" lang="en-US" sz="33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40458c"/>
                </a:solidFill>
                <a:latin typeface="Tahoma"/>
              </a:rPr>
              <a:t>Agire in modo autonomo e responsabile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: sapersi inserire in modo attivo e consapevole nella vita sociale e far valere al suo interno i propri diritti e bisogni riconoscendo al contempo quelli altrui, le opportunit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comuni, i limiti, le regole, le responsabilit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40458c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40458c"/>
                </a:solidFill>
                <a:latin typeface="Tahoma"/>
              </a:rPr>
              <a:t>Risolvere problemi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: affrontare situazioni problematiche costruendo e verificando ipotesi, individuando le fonti e le risorse adeguate, raccogliendo e valutando i dati, proponendo soluzioni utilizzando, secondo il tipo di problema, contenuti e metodi delle diverse discipline.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40458c"/>
                </a:solidFill>
                <a:latin typeface="Tahoma"/>
              </a:rPr>
              <a:t>Individuare collegamenti e relazioni: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individuare e rappresentare, elaborando argomentazioni coerenti, collegamenti e relazioni tra fenomeni, eventi e concetti diversi, anche appartenenti a diversi ambiti disciplinari, e lontani nello spazio e nel tempo, cogliendone la natura sistemica, individuando analogie e differenze, coerenze ed incoerenze, cause ed effetti e la loro natura probabilistica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40458c"/>
                </a:solidFill>
                <a:latin typeface="Tahoma"/>
              </a:rPr>
              <a:t>Acquisire ed interpretare l</a:t>
            </a:r>
            <a:r>
              <a:rPr b="1" lang="it-IT" sz="16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1" lang="it-IT" sz="1600" spc="-1" strike="noStrike">
                <a:solidFill>
                  <a:srgbClr val="40458c"/>
                </a:solidFill>
                <a:latin typeface="Tahoma"/>
              </a:rPr>
              <a:t>informazione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: acquisire ed interpretare criticamente l'informazione ricevuta nei diversi ambiti ed attraverso diversi strumenti comunicativi, valutandone l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attendibilit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e l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utilit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, distinguendo fatti e opinioni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23A23-9609-4EEE-A9C8-B5C594B6E4E8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09" name="Picture 3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324000" y="260280"/>
            <a:ext cx="7705440" cy="633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4A22C-6ED0-4D6B-A330-D2F80EE73F9B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2" name="Segnaposto numero diapositiva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500" spc="-1" strike="noStrike">
                <a:solidFill>
                  <a:srgbClr val="660066"/>
                </a:solidFill>
                <a:latin typeface="Tahoma"/>
              </a:rPr>
              <a:t>Gli ordinamenti</a:t>
            </a:r>
            <a:endParaRPr b="0" lang="en-US" sz="45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40458c"/>
                </a:solidFill>
                <a:latin typeface="Arial Unicode MS"/>
                <a:ea typeface="Arial Unicode MS"/>
              </a:rPr>
              <a:t>❒ </a:t>
            </a:r>
            <a:r>
              <a:rPr b="1" lang="it-IT" sz="1900" spc="-1" strike="noStrike">
                <a:solidFill>
                  <a:srgbClr val="40458c"/>
                </a:solidFill>
                <a:latin typeface="Arial Unicode MS"/>
                <a:ea typeface="Arial Unicode MS"/>
              </a:rPr>
              <a:t>	</a:t>
            </a:r>
            <a:r>
              <a:rPr b="1" lang="it-IT" sz="1800" spc="-1" strike="noStrike">
                <a:solidFill>
                  <a:srgbClr val="40458c"/>
                </a:solidFill>
                <a:latin typeface="Arial Unicode MS"/>
                <a:ea typeface="Arial Unicode MS"/>
              </a:rPr>
              <a:t>R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iforma istruzione tecnica: 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Legge n. 40/2007 art. 13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❒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	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DPCM 25 gennaio 2008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recante linee guida per la riorganizzazione del Sistema di istruzione e formazione tecnica superiore e la costituzione degli Istituti Tecnici Superiori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❒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	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Decreto-Legge 25 giugno 2008, n. 112 </a:t>
            </a:r>
            <a:r>
              <a:rPr b="1" i="1" lang="it-IT" sz="1800" spc="-1" strike="noStrike">
                <a:solidFill>
                  <a:srgbClr val="ff0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Legge di conversione 6 agosto 2008, n. 133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Disposizioni   urgenti  per  lo  sviluppo  economico,  la semplificazione,  la competitivit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, la stabilizzazione della finanza pubblica e la perequazione tributaria.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L</a:t>
            </a:r>
            <a:r>
              <a:rPr b="1" lang="it-IT" sz="1800" spc="-1" strike="noStrike">
                <a:solidFill>
                  <a:srgbClr val="ff0000"/>
                </a:solidFill>
                <a:latin typeface="Times New Roman"/>
              </a:rPr>
              <a:t>’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art. 64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, comma, 3 del DL, prevede un </a:t>
            </a:r>
            <a:r>
              <a:rPr b="0" lang="it-IT" sz="1800" spc="-1" strike="noStrike">
                <a:solidFill>
                  <a:srgbClr val="ff0000"/>
                </a:solidFill>
                <a:latin typeface="Tahoma"/>
              </a:rPr>
              <a:t>Piano programmatico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del Ministero del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Istruzione, del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Universit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e della Ricerca di concerto con il Ministro del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Economia e delle Finanze (predisposto il 4 settembre 2008)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❒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	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Decreto-Legge 1 settembre 2008, n. 137 </a:t>
            </a:r>
            <a:r>
              <a:rPr b="1" i="1" lang="it-IT" sz="1800" spc="-1" strike="noStrike">
                <a:solidFill>
                  <a:srgbClr val="ff0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Legge di conversione 30 ottobre 2008, n. 169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Disposizioni urgenti in materia di istruzione e universit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.</a:t>
            </a:r>
            <a:br>
              <a:rPr sz="1800"/>
            </a:b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(maestro unico, valutazione in decimi, voto di condotta, libri di testo).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CBB63-BF4B-4757-A420-B1BB5E2B0D5E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12" name="Picture 3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0" y="0"/>
            <a:ext cx="8352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D8A6D-916A-4F65-BB00-D04E3F59F0AF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I livell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20112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Livello base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: lo studente svolge compiti semplici in situazioni note,mostrando di possedere conoscenze ed abilit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essenziali e di saper applicare regole e procedure fondamentali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Nel caso in cui non sia stato raggiunto il livello base,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è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 riportata l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espressione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livello base non raggiunto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, con l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indicazione della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relativa motivazion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2011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Livello intermedio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: lo studente svolge compiti e risolve problemi complessi in situazioni note, compie scelte consapevoli, mostrando di saper utilizzare le conoscenze e le abilit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acquisite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20112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Livello avanzato: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lo studente svolge compiti e problemi complessi in situazioni anche non note, mostrando padronanza nel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uso delle conoscenze e delle abilit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. Sa proporre e sostenere le proprie opinioni e assumere autonomamente decisioni consapevol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07526-6A05-4EDD-BD46-17FD7BA5FBBC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7" name="Segnaposto numero diapositiva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Indicazioni nazionali per i Licei e Linee guida per IT e IP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26560" y="1628640"/>
            <a:ext cx="7083720" cy="48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- </a:t>
            </a:r>
            <a:r>
              <a:rPr b="1" lang="it-IT" sz="1600" spc="-1" strike="noStrike">
                <a:solidFill>
                  <a:srgbClr val="40458c"/>
                </a:solidFill>
                <a:latin typeface="Tahoma"/>
              </a:rPr>
              <a:t>Indicazioni nazionali per i Licei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: per riferimento alla Legge 53/03 e al D.Lgs 226/05 che viene 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riordinato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40458c"/>
                </a:solidFill>
                <a:latin typeface="Tahoma"/>
              </a:rPr>
              <a:t>- Linee guida per IT e IP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: per l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attuazione della Legge 40/2007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Non ci sono pi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ù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 i 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programmi ministeriali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 sulle discipline di insegnamento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il MIUR d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 Indicazioni alle scuole (profili, obiettivi generali, obiettivi specifici) sui </a:t>
            </a:r>
            <a:r>
              <a:rPr b="1" lang="it-IT" sz="1700" spc="-1" strike="noStrike">
                <a:solidFill>
                  <a:srgbClr val="ff0000"/>
                </a:solidFill>
                <a:latin typeface="Tahoma"/>
              </a:rPr>
              <a:t>risultati di apprendimento</a:t>
            </a:r>
            <a:r>
              <a:rPr b="0" lang="it-IT" sz="1700" spc="-1" strike="noStrike">
                <a:solidFill>
                  <a:srgbClr val="40458c"/>
                </a:solidFill>
                <a:latin typeface="Tahoma"/>
              </a:rPr>
              <a:t> descritti per: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0000"/>
                </a:solidFill>
                <a:latin typeface="Tahoma"/>
              </a:rPr>
              <a:t>competenze</a:t>
            </a:r>
            <a:r>
              <a:rPr b="0" lang="it-IT" sz="17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1700" spc="-1" strike="noStrike">
                <a:solidFill>
                  <a:srgbClr val="40458c"/>
                </a:solidFill>
                <a:latin typeface="Tahoma"/>
              </a:rPr>
              <a:t>(per 1° biennio, 2° biennio, 5° anno, con l</a:t>
            </a:r>
            <a:r>
              <a:rPr b="0" lang="it-IT" sz="17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700" spc="-1" strike="noStrike">
                <a:solidFill>
                  <a:srgbClr val="40458c"/>
                </a:solidFill>
                <a:latin typeface="Tahoma"/>
              </a:rPr>
              <a:t>indicazione delle discipline che concorrono al loro raggiungimento)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4b34f4"/>
                </a:solidFill>
                <a:latin typeface="Tahoma"/>
              </a:rPr>
              <a:t>attraverso</a:t>
            </a:r>
            <a:r>
              <a:rPr b="1" lang="it-IT" sz="1700" spc="-1" strike="noStrike">
                <a:solidFill>
                  <a:srgbClr val="ff0000"/>
                </a:solidFill>
                <a:latin typeface="Tahoma"/>
              </a:rPr>
              <a:t> abilit</a:t>
            </a:r>
            <a:r>
              <a:rPr b="1" lang="it-IT" sz="1700" spc="-1" strike="noStrike">
                <a:solidFill>
                  <a:srgbClr val="ff0000"/>
                </a:solidFill>
                <a:latin typeface="Times New Roman"/>
              </a:rPr>
              <a:t>à e </a:t>
            </a:r>
            <a:r>
              <a:rPr b="1" lang="it-IT" sz="1700" spc="-1" strike="noStrike">
                <a:solidFill>
                  <a:srgbClr val="ff0000"/>
                </a:solidFill>
                <a:latin typeface="Tahoma"/>
              </a:rPr>
              <a:t>conoscenze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0000"/>
                </a:solidFill>
                <a:latin typeface="Tahoma"/>
              </a:rPr>
              <a:t>- I docenti individuano i percorsi formativi (conoscenze correlate alle abilit</a:t>
            </a:r>
            <a:r>
              <a:rPr b="1" lang="it-IT" sz="1700" spc="-1" strike="noStrike">
                <a:solidFill>
                  <a:srgbClr val="ff0000"/>
                </a:solidFill>
                <a:latin typeface="Times New Roman"/>
              </a:rPr>
              <a:t>à</a:t>
            </a:r>
            <a:r>
              <a:rPr b="1" lang="it-IT" sz="1700" spc="-1" strike="noStrike">
                <a:solidFill>
                  <a:srgbClr val="ff0000"/>
                </a:solidFill>
                <a:latin typeface="Tahoma"/>
              </a:rPr>
              <a:t>) per il conseguimento delle competenze indicate.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FC150-4912-419A-99F8-545E9DF71871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Laboratori e laboratorialit</a:t>
            </a:r>
            <a:r>
              <a:rPr b="0" lang="it-IT" sz="4400" spc="-1" strike="noStrike">
                <a:solidFill>
                  <a:srgbClr val="660066"/>
                </a:solidFill>
                <a:latin typeface="Times New Roman"/>
              </a:rPr>
              <a:t>à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I percorsi degli IT 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…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si realizzano attraverso metodologie finalizzate a sviluppare, con particolare riferimento alle attivit</a:t>
            </a:r>
            <a:r>
              <a:rPr b="0" i="1" lang="it-IT" sz="23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 e agli insegnamenti di indirizzo, competenze basate sulla </a:t>
            </a:r>
            <a:r>
              <a:rPr b="0" i="1" lang="it-IT" sz="2300" spc="-1" strike="noStrike">
                <a:solidFill>
                  <a:srgbClr val="f04010"/>
                </a:solidFill>
                <a:latin typeface="Tahoma"/>
              </a:rPr>
              <a:t>didattica di laboratorio</a:t>
            </a: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i="1" lang="it-IT" sz="2300" spc="-1" strike="noStrike">
                <a:solidFill>
                  <a:srgbClr val="f04010"/>
                </a:solidFill>
                <a:latin typeface="Tahoma"/>
              </a:rPr>
              <a:t>l'analisi e la soluzione dei problemi, il lavoro per progetti</a:t>
            </a: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; sono orientati alla gestione di processi in contesti organizzati e all'uso di modelli e linguaggi specifici; sono strutturati in modo da favorire un collegamento organico con il mondo del lavoro e delle professioni, compresi il volontariato ed il privato sociale. Stage, tirocini e alternanza scuola lavoro sono strumenti didattici per la realizzazione dei percorsi di studio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.(art. 5, c. 2/e)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C710F-1C3C-4008-A893-22CD28924282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Laboratori e laboratorialit</a:t>
            </a:r>
            <a:r>
              <a:rPr b="0" lang="it-IT" sz="4400" spc="-1" strike="noStrike">
                <a:solidFill>
                  <a:srgbClr val="660066"/>
                </a:solidFill>
                <a:latin typeface="Times New Roman"/>
              </a:rPr>
              <a:t>à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I percorsi liceali forniscono allo studente gli strumenti culturali e metodologici per una comprensione approfondita della realt</a:t>
            </a:r>
            <a:r>
              <a:rPr b="0" i="1" lang="it-IT" sz="2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, affinch</a:t>
            </a:r>
            <a:r>
              <a:rPr b="0" i="1" lang="it-IT" sz="2400" spc="-1" strike="noStrike">
                <a:solidFill>
                  <a:srgbClr val="40458c"/>
                </a:solidFill>
                <a:latin typeface="Times New Roman"/>
              </a:rPr>
              <a:t>é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 egli si ponga, con atteggiamento razionale,creativo, </a:t>
            </a:r>
            <a:r>
              <a:rPr b="0" i="1" lang="it-IT" sz="2400" spc="-1" strike="noStrike">
                <a:solidFill>
                  <a:srgbClr val="f04010"/>
                </a:solidFill>
                <a:latin typeface="Tahoma"/>
              </a:rPr>
              <a:t>progettuale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 e critico, di fronte alle situazioni, ai fenomeni e ai problemi, ed acquisisca </a:t>
            </a:r>
            <a:r>
              <a:rPr b="0" i="1" lang="it-IT" sz="2400" spc="-1" strike="noStrike">
                <a:solidFill>
                  <a:srgbClr val="f04010"/>
                </a:solidFill>
                <a:latin typeface="Tahoma"/>
              </a:rPr>
              <a:t>conoscenze, abilit</a:t>
            </a:r>
            <a:r>
              <a:rPr b="0" i="1" lang="it-IT" sz="2400" spc="-1" strike="noStrike">
                <a:solidFill>
                  <a:srgbClr val="f04010"/>
                </a:solidFill>
                <a:latin typeface="Times New Roman"/>
              </a:rPr>
              <a:t>à</a:t>
            </a:r>
            <a:r>
              <a:rPr b="0" i="1" lang="it-IT" sz="2400" spc="-1" strike="noStrike">
                <a:solidFill>
                  <a:srgbClr val="f04010"/>
                </a:solidFill>
                <a:latin typeface="Tahoma"/>
              </a:rPr>
              <a:t> e competenze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 coerenti con le capacit</a:t>
            </a:r>
            <a:r>
              <a:rPr b="0" i="1" lang="it-IT" sz="2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 e le scelte personali e adeguate al proseguimento degli studi di ordine superiore, all'inserimento nella vita sociale e nel mondo del lavoro</a:t>
            </a:r>
            <a:r>
              <a:rPr b="0" i="1" lang="it-IT" sz="24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.(art. 2, c.2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6ED09-AF7A-476A-A0C7-C2C183764AEC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Metodologie innovativ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f04010"/>
                </a:solidFill>
                <a:latin typeface="Tahoma"/>
              </a:rPr>
              <a:t>didattica laboratoriale e in laboratori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f04010"/>
                </a:solidFill>
                <a:latin typeface="Tahoma"/>
              </a:rPr>
              <a:t>analisi e soluzione dei problem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f04010"/>
                </a:solidFill>
                <a:latin typeface="Tahoma"/>
              </a:rPr>
              <a:t>lavoro per progett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40458c"/>
                </a:solidFill>
                <a:latin typeface="Tahoma"/>
              </a:rPr>
              <a:t>tirocini e alternanza scuola lavor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40458c"/>
                </a:solidFill>
                <a:latin typeface="Tahoma"/>
              </a:rPr>
              <a:t>cooperative learn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40458c"/>
                </a:solidFill>
                <a:latin typeface="Tahoma"/>
              </a:rPr>
              <a:t>uso di tecnologie avanzat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1A34A-1514-4258-9541-B32D72FD6B21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660066"/>
                </a:solidFill>
                <a:latin typeface="Tahoma"/>
              </a:rPr>
              <a:t>CLIL - </a:t>
            </a:r>
            <a:r>
              <a:rPr b="0" lang="it-IT" sz="2900" spc="-1" strike="noStrike">
                <a:solidFill>
                  <a:srgbClr val="660066"/>
                </a:solidFill>
                <a:latin typeface="Tahoma"/>
              </a:rPr>
              <a:t>Content and Language Integrated Learning</a:t>
            </a: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Nei Licei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Fatto salvo quanto stabilito specificamente per il percorso del liceo linguistico*, nel quinto anno </a:t>
            </a:r>
            <a:r>
              <a:rPr b="0" i="1" lang="it-IT" sz="2300" spc="-1" strike="noStrike">
                <a:solidFill>
                  <a:srgbClr val="40458c"/>
                </a:solidFill>
                <a:latin typeface="Times New Roman"/>
              </a:rPr>
              <a:t>è</a:t>
            </a: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 impartito l'insegnamento, in lingua straniera, di una disciplina non linguistica compresa nell'area delle attivit</a:t>
            </a:r>
            <a:r>
              <a:rPr b="0" i="1" lang="it-IT" sz="23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 e degli insegnamenti obbligatori per tutti gli studenti o nell'area degli insegnamenti attivabili dalle istituzioni scolastiche nei limiti del contingente di organico ad esse annualmente assegnato . Tale insegnamento </a:t>
            </a:r>
            <a:r>
              <a:rPr b="0" i="1" lang="it-IT" sz="2300" spc="-1" strike="noStrike">
                <a:solidFill>
                  <a:srgbClr val="40458c"/>
                </a:solidFill>
                <a:latin typeface="Times New Roman"/>
              </a:rPr>
              <a:t>è</a:t>
            </a: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 attivato in ogni caso nei limiti degli organici determinati a legislazione vigente</a:t>
            </a:r>
            <a:r>
              <a:rPr b="0" i="1" lang="it-IT" sz="23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Negli IT la lingua che si utilizza 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è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 l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inglese ed 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è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 scelta tra quelle dell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area di indirizzo del quinto anno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*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Nei licei linguistici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si inizia dal primo anno del secondo biennio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18FE0-A7B0-4981-9A75-15B33FACD5AB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3" name="Segnaposto numero diapositiva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660066"/>
                </a:solidFill>
                <a:latin typeface="Tahoma"/>
              </a:rPr>
              <a:t>quadro ordinamenti</a:t>
            </a:r>
            <a:endParaRPr b="0" lang="en-US" sz="4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21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24"/>
              </a:spcBef>
              <a:spcAft>
                <a:spcPts val="938"/>
              </a:spcAft>
              <a:buSzPct val="14480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scuola dell</a:t>
            </a:r>
            <a:r>
              <a:rPr b="0" lang="it-IT" sz="25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infanzia: 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        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tre anni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SzPct val="14480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1° ciclo: 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1" marL="678240" indent="-340560">
              <a:lnSpc>
                <a:spcPct val="80000"/>
              </a:lnSpc>
              <a:spcBef>
                <a:spcPts val="67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scuola primaria: 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cinque anni</a:t>
            </a:r>
            <a:endParaRPr b="0" lang="en-US" sz="2700" spc="-1" strike="noStrike">
              <a:solidFill>
                <a:srgbClr val="40458c"/>
              </a:solidFill>
              <a:latin typeface="Tahoma"/>
            </a:endParaRPr>
          </a:p>
          <a:p>
            <a:pPr lvl="1" marL="678240" indent="-340560">
              <a:lnSpc>
                <a:spcPct val="80000"/>
              </a:lnSpc>
              <a:spcBef>
                <a:spcPts val="67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scuola secondaria di primo grado: 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tre anni</a:t>
            </a:r>
            <a:endParaRPr b="0" lang="en-US" sz="27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sono individuati i </a:t>
            </a:r>
            <a:r>
              <a:rPr b="0" i="1" lang="it-IT" sz="19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traguardi di competenza</a:t>
            </a:r>
            <a:r>
              <a:rPr b="0" i="1" lang="it-IT" sz="19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Pubblicata (nov 2012) la revisione delle Indicazioni per il </a:t>
            </a: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curricolo per la scuola dell</a:t>
            </a:r>
            <a:r>
              <a:rPr b="0" i="1" lang="it-IT" sz="19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infanzia e il primo ciclo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2° ciclo: 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1" marL="678240" indent="-340560">
              <a:lnSpc>
                <a:spcPct val="80000"/>
              </a:lnSpc>
              <a:spcBef>
                <a:spcPts val="67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licei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cinque anni</a:t>
            </a:r>
            <a:endParaRPr b="0" lang="en-US" sz="2700" spc="-1" strike="noStrike">
              <a:solidFill>
                <a:srgbClr val="40458c"/>
              </a:solidFill>
              <a:latin typeface="Tahoma"/>
            </a:endParaRPr>
          </a:p>
          <a:p>
            <a:pPr lvl="1" marL="678240" indent="-340560">
              <a:lnSpc>
                <a:spcPct val="80000"/>
              </a:lnSpc>
              <a:spcBef>
                <a:spcPts val="67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istituti tecnici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imes New Roman"/>
              </a:rPr>
              <a:t>“</a:t>
            </a:r>
            <a:endParaRPr b="0" lang="en-US" sz="2700" spc="-1" strike="noStrike">
              <a:solidFill>
                <a:srgbClr val="40458c"/>
              </a:solidFill>
              <a:latin typeface="Tahoma"/>
            </a:endParaRPr>
          </a:p>
          <a:p>
            <a:pPr lvl="1" marL="678240" indent="-340560">
              <a:lnSpc>
                <a:spcPct val="80000"/>
              </a:lnSpc>
              <a:spcBef>
                <a:spcPts val="67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istituti professionali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imes New Roman"/>
              </a:rPr>
              <a:t>“</a:t>
            </a:r>
            <a:endParaRPr b="0" lang="en-US" sz="27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sono individuati i </a:t>
            </a:r>
            <a:r>
              <a:rPr b="0" i="1" lang="it-IT" sz="19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risultati di apprendimento</a:t>
            </a:r>
            <a:r>
              <a:rPr b="0" i="1" lang="it-IT" sz="19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A5871-37E8-4BA6-8473-C1CB39815A57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I lice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I </a:t>
            </a:r>
            <a:r>
              <a:rPr b="1" lang="it-IT" sz="2300" spc="-1" strike="noStrike">
                <a:solidFill>
                  <a:srgbClr val="40458c"/>
                </a:solidFill>
                <a:latin typeface="Tahoma"/>
              </a:rPr>
              <a:t>licei 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sono sei, con indirizzi e opzioni: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- artistico con sei indirizzi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Arti figurative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Architettura e ambiente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Design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Audiovisivo e multimediale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Grafica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Scenografia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- classico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- linguistico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- musicale e coreutico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- scientifico con opzione scienze applicate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- scienze umane con opzione economico-sociale 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70977-D3C9-4C6A-ABA5-F743AD85F9AE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Gli Istituti tecnici 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Gli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Istituti Tecnici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sono organizzati in due settori con undici indirizzi (con articolazioni)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-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Settore economico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con due indirizz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Amministrazione, Finanza e Marketing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Articolazioni: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Relazioni internazionali per il Marketing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 e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Sistemi informativi aziendali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Turismo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-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Settore tecnologico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con nove indirizzi (con articolazioni)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Meccanica, Meccatronica ed Energi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Articolazioni: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Meccanica e meccatronica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 ed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Energia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Trasporti e Logistic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Articolazioni: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Costruzione del mezzo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Conduzione del mezzo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 e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Logistica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Elettronica ed Elettrotecnic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Articolazioni: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Elettronica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Elettrotecnica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 e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Automazione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B3805-4C13-42DC-9334-F8DDBAC2BF44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6" name="Segnaposto numero diapositiva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200" spc="-1" strike="noStrike">
                <a:solidFill>
                  <a:srgbClr val="660066"/>
                </a:solidFill>
                <a:latin typeface="Tahoma"/>
              </a:rPr>
              <a:t>Gli ordinamenti</a:t>
            </a:r>
            <a:endParaRPr b="0" lang="en-US" sz="4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85520" y="1904760"/>
            <a:ext cx="782460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  <a:ea typeface="Arial Unicode MS"/>
              </a:rPr>
              <a:t>❒</a:t>
            </a:r>
            <a:r>
              <a:rPr b="1" lang="it-IT" sz="1900" spc="-1" strike="noStrike">
                <a:solidFill>
                  <a:srgbClr val="40458c"/>
                </a:solidFill>
                <a:latin typeface="Tahoma"/>
                <a:ea typeface="Arial Unicode MS"/>
              </a:rPr>
              <a:t> </a:t>
            </a:r>
            <a:r>
              <a:rPr b="1" lang="it-IT" sz="1900" spc="-1" strike="noStrike">
                <a:solidFill>
                  <a:srgbClr val="40458c"/>
                </a:solidFill>
                <a:latin typeface="Tahoma"/>
                <a:ea typeface="Arial Unicode MS"/>
              </a:rPr>
              <a:t>	</a:t>
            </a:r>
            <a:r>
              <a:rPr b="1" lang="it-IT" sz="2400" spc="-1" strike="noStrike">
                <a:solidFill>
                  <a:srgbClr val="ff0000"/>
                </a:solidFill>
                <a:latin typeface="Tahoma"/>
                <a:ea typeface="Arial Unicode MS"/>
              </a:rPr>
              <a:t>DPR n. 81</a:t>
            </a:r>
            <a:r>
              <a:rPr b="0" lang="it-IT" sz="2400" spc="-1" strike="noStrike">
                <a:solidFill>
                  <a:srgbClr val="ff0000"/>
                </a:solidFill>
                <a:latin typeface="Tahoma"/>
                <a:ea typeface="Arial Unicode MS"/>
              </a:rPr>
              <a:t> </a:t>
            </a:r>
            <a:r>
              <a:rPr b="1" lang="it-IT" sz="2400" spc="-1" strike="noStrike">
                <a:solidFill>
                  <a:srgbClr val="ff0000"/>
                </a:solidFill>
                <a:latin typeface="Tahoma"/>
                <a:ea typeface="Arial Unicode MS"/>
              </a:rPr>
              <a:t>del 20.03.2009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  <a:ea typeface="Arial Unicode MS"/>
              </a:rPr>
              <a:t>,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Regolamento su 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Norme per la riorganizzazione della rete scolastica e il razionale ed efficace utilizzo delle risorse umane della scuola, ai sensi dell</a:t>
            </a:r>
            <a:r>
              <a:rPr b="0" i="1" lang="it-IT" sz="24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articolo 64, comma 4, del decreto legge 25 giugno 2008, n. 112, convertito con modificazioni della legge 6 agosto 2008, </a:t>
            </a:r>
            <a:r>
              <a:rPr b="1" i="1" lang="it-IT" sz="2400" spc="-1" strike="noStrike">
                <a:solidFill>
                  <a:srgbClr val="40458c"/>
                </a:solidFill>
                <a:latin typeface="Tahoma"/>
              </a:rPr>
              <a:t>n.133</a:t>
            </a:r>
            <a:r>
              <a:rPr b="1" i="1" lang="it-IT" sz="24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1" i="1" lang="it-IT" sz="2400" spc="-1" strike="noStrike">
                <a:solidFill>
                  <a:srgbClr val="40458c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48D90-FD21-4F23-A324-C809C9A2AA7A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Gli istituti tecnici 2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Informatica e Telecomunicazioni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Articolazioni: 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Informatica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 e 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Telecomunicazioni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Grafica e Comunicazione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Chimica, Materiali e Biotecnologie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Articolazioni: 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Chimica e materiali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Biotecnologie ambientali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 e 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Biotecnologie sanitarie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Sistema Moda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Articolazioni: 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Tessile, abbigliamento e moda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 e 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Calzature e moda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Agraria, Agroalimentare e Agroindustria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Articolazioni: 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Produzioni e trasformazioni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Gestione dell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ambiente e del territorio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 e 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Viticoltura ed enologia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Costruzioni, Ambiente e Territorio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Articolazione: 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Geotecnico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B60F7-B89F-43F1-9567-E98C7739CBFA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Gli Istituti professional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Gli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Istituti professionali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sono organizzati in due settori e sei indirizzi (con articolazioni)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-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Settore servizi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con quattro indirizz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Per 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agricoltura e lo sviluppo rural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Socio sanitari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Articolazioni :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Arti ausiliarie delle professioni sanitarie, Odontotecnico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 e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Arti ausiliarie delle professioni sanitarie, Ottico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Per 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enogastronomia e 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ospitalit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alberghier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Articolazioni: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Enogastronomia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Servizi di sala e di vendita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 e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Accoglienza turistica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Commercial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-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Settore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Industria e artigianato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con due indirizzi (con articolazioni)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Produzioni artigianali e industrial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Articolazioni: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Industria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 e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Artigianato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Manutenzione e assistenza tecnic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35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AF2F9-6F92-483E-8469-3756E8EA2796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BF6F3-9ADB-4D56-88C4-F6316742314B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2" name="Segnaposto numero diapositiva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3" name="Text Box 2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600" spc="-1" strike="noStrike">
                <a:solidFill>
                  <a:srgbClr val="660066"/>
                </a:solidFill>
                <a:latin typeface="Arial"/>
                <a:ea typeface="Lucida Sans Unicode"/>
              </a:rPr>
              <a:t>Obbligo e diritto-dovere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6560" indent="-4665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obbligo di istruzione:</a:t>
            </a:r>
            <a:r>
              <a:rPr b="0" lang="it-IT" sz="21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	</a:t>
            </a:r>
            <a:r>
              <a:rPr b="0" lang="it-IT" sz="21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	</a:t>
            </a:r>
            <a:r>
              <a:rPr b="0" lang="it-IT" sz="21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	</a:t>
            </a:r>
            <a:r>
              <a:rPr b="0" lang="it-IT" sz="21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fino a 16 anni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466560" indent="-4665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 marL="466560" indent="-466560">
              <a:lnSpc>
                <a:spcPct val="80000"/>
              </a:lnSpc>
              <a:spcBef>
                <a:spcPts val="499"/>
              </a:spcBef>
              <a:spcAft>
                <a:spcPts val="587"/>
              </a:spcAft>
              <a:tabLst>
                <a:tab algn="l" pos="0"/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	</a:t>
            </a:r>
            <a:r>
              <a:rPr b="0" lang="it-IT" sz="19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- nel 1° biennio del secondo ciclo, </a:t>
            </a:r>
            <a:r>
              <a:rPr b="0" i="1" lang="it-IT" sz="19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oppure</a:t>
            </a:r>
            <a:r>
              <a:rPr b="0" lang="it-IT" sz="19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 </a:t>
            </a:r>
            <a:br>
              <a:rPr sz="1900"/>
            </a:br>
            <a:r>
              <a:rPr b="0" lang="it-IT" sz="19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- nei percorsi di istruzione e formazione professionale (in attuazione del capo III del D.Lgs 226/05 e dell’Intesa del 16 dic 2010)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561"/>
              </a:spcAft>
              <a:tabLst>
                <a:tab algn="l" pos="0"/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- </a:t>
            </a: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ei percorsi formativi previsti dalla legge sull’apprendistato 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(innalzata l’età di accesso a 16 anni da Legge finanziaria 2007, è stato approvato nella Legge n.183/2010, “Collegato al lavoro”, un ritorno alla soglia minima di 15 anni, con compimento di obbligo nei percorsi per apprendistato, disposizione confermata nel </a:t>
            </a:r>
            <a:r>
              <a:rPr b="1" lang="it-IT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TU 167/2011</a:t>
            </a:r>
            <a:r>
              <a:rPr b="0" lang="it-IT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587"/>
              </a:spcAft>
              <a:tabLst>
                <a:tab algn="l" pos="0"/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	</a:t>
            </a:r>
            <a:r>
              <a:rPr b="0" lang="it-IT" sz="19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Vige il D.Lgs 76/2005 su “Diritto – Dovere a istruzione e formazione professionale” per il quale si resta in formazione fino a 18 anni (salvo conseguimento di qualifica professionale entro i 18 anni).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151ED-817C-4D5D-B328-85277FFBE091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ahoma"/>
              </a:rPr>
              <a:t>titoli di studio e qualifiche</a:t>
            </a:r>
            <a:br>
              <a:rPr sz="4000"/>
            </a:b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2692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550"/>
              </a:spcBef>
              <a:buSzPct val="16458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ahoma"/>
              </a:rPr>
              <a:t>Istituti tecnici rilasciano diplomi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550"/>
              </a:spcBef>
              <a:buSzPct val="16458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ahoma"/>
              </a:rPr>
              <a:t>Istituti professionali rilasciano diplomi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550"/>
              </a:spcBef>
              <a:buSzPct val="16458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ahoma"/>
              </a:rPr>
              <a:t>Licei rilasciano diplomi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550"/>
              </a:spcBef>
              <a:buSzPct val="16458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Gli istituti professionali rilasciano diplomi quinquennali; in sussidiariet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à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 con le Regioni, possono rilasciare qualifiche triennali o diplomi professionali quadriennali (compresi nel repertorio nazionale di cui alla Legge 40/07) secondo le due modalit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à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 dell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Intesa del 16 dic 2010: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- offerta sussidiaria integrativ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B- offerta sussidiaria complementar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olo per gli iscritti alle classi prime dell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.s. 2010-11 vige il regime surrogatorio (si rilasciano ancora qualifiche triennali).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550"/>
              </a:spcBef>
              <a:buSzPct val="16458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Tutti i diplomi danno accesso agli studi superiori universitari o tecnici (Istituti Tecnici Superiori) e al mondo del lavor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550"/>
              </a:spcBef>
              <a:buSzPct val="16458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Riferimento obbligatorio (entro il 2012) al sistema EQF: European Qualifications Framework)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B7192-B847-4E08-8CC2-DB27308BDD3A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50920" y="304920"/>
            <a:ext cx="832464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660066"/>
                </a:solidFill>
                <a:latin typeface="Tahoma"/>
              </a:rPr>
              <a:t>Intesa Stato-Regioni 16 dicembre 2010</a:t>
            </a:r>
            <a:endParaRPr b="0" lang="en-US" sz="33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825336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Si definiscono i rapporti tra istituti professionali e istruzione e formazione professionale di competenza regionale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L</a:t>
            </a:r>
            <a:r>
              <a:rPr b="0" lang="it-IT" sz="25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intesa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riguarda l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adozione di linee-guida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attua una previsione legislativa: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legge 2 aprile 2007, n. 40 art. 13.1.5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consente di conseguire 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qualifiche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negli istituti professionali di sta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40458c"/>
                </a:solidFill>
                <a:latin typeface="Tahoma"/>
              </a:rPr>
              <a:t>in regime integrativ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40458c"/>
                </a:solidFill>
                <a:latin typeface="Tahoma"/>
              </a:rPr>
              <a:t>in regime complementar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40458c"/>
                </a:solidFill>
                <a:latin typeface="Tahoma"/>
              </a:rPr>
              <a:t>la decisione spetta a ciascuna Region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0C8BE-E208-4155-9BAF-E62AABFA4578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Istituti professional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40458c"/>
                </a:solidFill>
                <a:latin typeface="Tahoma"/>
              </a:rPr>
              <a:t>CM 101 del 30 dicembre 2010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1" lang="it-IT" sz="2200" spc="-1" strike="noStrike">
                <a:solidFill>
                  <a:srgbClr val="40458c"/>
                </a:solidFill>
                <a:latin typeface="Tahoma"/>
              </a:rPr>
              <a:t>Tipologia A </a:t>
            </a:r>
            <a:r>
              <a:rPr b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1" lang="it-IT" sz="2200" spc="-1" strike="noStrike">
                <a:solidFill>
                  <a:srgbClr val="40458c"/>
                </a:solidFill>
                <a:latin typeface="Tahoma"/>
              </a:rPr>
              <a:t>offerta sussidiaria integrativa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 (Linee guida, capo II, punto 2).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Gli studenti che chiedono di iscriversi alla classe prima degli indirizzi quinquennali degli istituti professionali di cui all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allegato 1 possono contestualmente chiedere anche di poter conseguire una qualifica professionale di cui all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allegato 2 a conclusione del terzo anno. A tal fine, gli istituti professionali propongono agli studenti e alle loro famiglie i percorsi di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qualifica corrispondenti, in base a quanto previsto dalla tabella allegato n. 3, a quelli realizzati nel corrente anno scolastico.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20A56-8CE8-486A-A5A3-F0E066503C89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Istituti professional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tipologia B 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offerta sussidiaria complementare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(Linee guida, capo II, punto 2).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Tale tipologia può trovare attuazione solo qualora il competente Assessorato regionale decida, in attuazione del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accordo territoriale col competente USR per la prima attuazione delle linee guida, di attivare presso gli istituti professionali classi prime che assumano gli standard formativi e la regolamentazione del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ordinamento dei percorsi triennali di IeFP.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In tale caso possono iscriversi a detti corsi gli studenti che intendano conseguire solo i titoli di qualifica triennali di cui al Capo II, punto 2, delle Linee guida. 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iscrizione ai citati percorsi avverr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secondo modalit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e procedure operative da concordare sulla base delle indicazioni che le singole Regioni forniranno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CC965-B534-425A-A318-78DBB04FB3E7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0" name="Segnaposto numero diapositiva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200" spc="-1" strike="noStrike">
                <a:solidFill>
                  <a:srgbClr val="660066"/>
                </a:solidFill>
                <a:latin typeface="Tahoma"/>
              </a:rPr>
              <a:t>Gli ordinamenti</a:t>
            </a:r>
            <a:endParaRPr b="0" lang="en-US" sz="4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331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  <a:ea typeface="Arial Unicode MS"/>
              </a:rPr>
              <a:t>❒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ff0000"/>
                </a:solidFill>
                <a:latin typeface="Tahoma"/>
              </a:rPr>
              <a:t>DPR n. 89 del 20.03.2009</a:t>
            </a:r>
            <a:r>
              <a:rPr b="0" lang="it-IT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7030a0"/>
                </a:solidFill>
                <a:latin typeface="Times New Roman"/>
              </a:rPr>
              <a:t>“</a:t>
            </a:r>
            <a:r>
              <a:rPr b="0" lang="it-IT" sz="2000" spc="-1" strike="noStrike">
                <a:solidFill>
                  <a:srgbClr val="7030a0"/>
                </a:solidFill>
                <a:latin typeface="Tahoma"/>
              </a:rPr>
              <a:t>Regolamento su Scuola dell</a:t>
            </a:r>
            <a:r>
              <a:rPr b="0" lang="it-IT" sz="2000" spc="-1" strike="noStrike">
                <a:solidFill>
                  <a:srgbClr val="7030a0"/>
                </a:solidFill>
                <a:latin typeface="Times New Roman"/>
              </a:rPr>
              <a:t>’</a:t>
            </a:r>
            <a:r>
              <a:rPr b="0" lang="it-IT" sz="2000" spc="-1" strike="noStrike">
                <a:solidFill>
                  <a:srgbClr val="7030a0"/>
                </a:solidFill>
                <a:latin typeface="Tahoma"/>
              </a:rPr>
              <a:t>infanzia e primo Ciclo di istruzione</a:t>
            </a:r>
            <a:r>
              <a:rPr b="0" lang="it-IT" sz="2000" spc="-1" strike="noStrike">
                <a:solidFill>
                  <a:srgbClr val="7030a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40458c"/>
                </a:solidFill>
                <a:latin typeface="Tahoma"/>
                <a:ea typeface="Arial Unicode MS"/>
              </a:rPr>
              <a:t>❒</a:t>
            </a:r>
            <a:r>
              <a:rPr b="1" lang="it-IT" sz="19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it-IT" sz="1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1900" spc="-1" strike="noStrike">
                <a:solidFill>
                  <a:srgbClr val="ff0000"/>
                </a:solidFill>
                <a:latin typeface="Tahoma"/>
              </a:rPr>
              <a:t>DPR n. 87, 15 marzo 2010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 recante norme concernenti il riordino degli </a:t>
            </a:r>
            <a:r>
              <a:rPr b="1" lang="it-IT" sz="1900" spc="-1" strike="noStrike">
                <a:solidFill>
                  <a:srgbClr val="40458c"/>
                </a:solidFill>
                <a:latin typeface="Tahoma"/>
              </a:rPr>
              <a:t>istituti professionali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 ai sensi dell</a:t>
            </a:r>
            <a:r>
              <a:rPr b="0" lang="it-IT" sz="19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art. 64, comma 4, del decreto legge 25 giugno 2008 n. 112, convertito dalla legge 6 agosto 2008, n. 133</a:t>
            </a:r>
            <a:r>
              <a:rPr b="0" lang="it-IT" sz="19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;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40458c"/>
                </a:solidFill>
                <a:latin typeface="Tahoma"/>
                <a:ea typeface="Arial Unicode MS"/>
              </a:rPr>
              <a:t>❒</a:t>
            </a:r>
            <a:r>
              <a:rPr b="1" lang="it-IT" sz="19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it-IT" sz="1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1900" spc="-1" strike="noStrike">
                <a:solidFill>
                  <a:srgbClr val="ff0000"/>
                </a:solidFill>
                <a:latin typeface="Tahoma"/>
              </a:rPr>
              <a:t>DPR n. 88, 15 marzo 2010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 recante norme concernenti il riordino degli </a:t>
            </a:r>
            <a:r>
              <a:rPr b="1" lang="it-IT" sz="1900" spc="-1" strike="noStrike">
                <a:solidFill>
                  <a:srgbClr val="40458c"/>
                </a:solidFill>
                <a:latin typeface="Tahoma"/>
              </a:rPr>
              <a:t>istituti tecnici 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ai sensi dell</a:t>
            </a:r>
            <a:r>
              <a:rPr b="0" lang="it-IT" sz="19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art. 64, comma 4, del decreto legge 25 giugno 2008 n. 112, convertito dalla legge 6 agosto 2008, n. 133</a:t>
            </a:r>
            <a:r>
              <a:rPr b="0" lang="it-IT" sz="19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40458c"/>
                </a:solidFill>
                <a:latin typeface="Tahoma"/>
                <a:ea typeface="Arial Unicode MS"/>
              </a:rPr>
              <a:t>❒</a:t>
            </a:r>
            <a:r>
              <a:rPr b="1" lang="it-IT" sz="19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it-IT" sz="1900" spc="-1" strike="noStrike">
                <a:solidFill>
                  <a:srgbClr val="ff0000"/>
                </a:solidFill>
                <a:latin typeface="Tahoma"/>
              </a:rPr>
              <a:t>DPR n. 89, 15 marzo</a:t>
            </a:r>
            <a:r>
              <a:rPr b="1" lang="it-IT" sz="19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it-IT" sz="1900" spc="-1" strike="noStrike">
                <a:solidFill>
                  <a:srgbClr val="ff0000"/>
                </a:solidFill>
                <a:latin typeface="Tahoma"/>
              </a:rPr>
              <a:t>2010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 recante </a:t>
            </a:r>
            <a:r>
              <a:rPr b="0" lang="it-IT" sz="19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Revisione dell</a:t>
            </a:r>
            <a:r>
              <a:rPr b="0" lang="it-IT" sz="19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assetto ordinamentale, organizzativo e didattico dei </a:t>
            </a:r>
            <a:r>
              <a:rPr b="1" lang="it-IT" sz="1900" spc="-1" strike="noStrike">
                <a:solidFill>
                  <a:srgbClr val="40458c"/>
                </a:solidFill>
                <a:latin typeface="Tahoma"/>
              </a:rPr>
              <a:t>licei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, ai sensi dell</a:t>
            </a:r>
            <a:r>
              <a:rPr b="0" lang="it-IT" sz="19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art. 64, comma 4, del decreto legge 25 giugno 2008 n. 112, convertito dalla legge 6 agosto 2008, n. 133</a:t>
            </a:r>
            <a:r>
              <a:rPr b="0" lang="it-IT" sz="19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F5B23-1860-4503-A908-F67E9F40A892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4" name="Segnaposto numero diapositiva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23640" y="174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innovazioni e nuovi punti di riferimento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838080" y="164304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lnSpc>
                <a:spcPct val="80000"/>
              </a:lnSpc>
              <a:spcBef>
                <a:spcPts val="624"/>
              </a:spcBef>
              <a:buSzPct val="11321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40458c"/>
                </a:solidFill>
                <a:latin typeface="Tahoma"/>
              </a:rPr>
              <a:t>innovazioni strutturali dei regolamenti di riordino del primo e del secondo ciclo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460080" indent="-460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lnSpc>
                <a:spcPct val="80000"/>
              </a:lnSpc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40458c"/>
                </a:solidFill>
                <a:latin typeface="Tahoma"/>
              </a:rPr>
              <a:t>autonomia e flessibilit</a:t>
            </a:r>
            <a:r>
              <a:rPr b="0" lang="it-IT" sz="2600" spc="-1" strike="noStrike">
                <a:solidFill>
                  <a:srgbClr val="40458c"/>
                </a:solidFill>
                <a:latin typeface="Times New Roman"/>
              </a:rPr>
              <a:t>à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lnSpc>
                <a:spcPct val="80000"/>
              </a:lnSpc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40458c"/>
                </a:solidFill>
                <a:latin typeface="Tahoma"/>
              </a:rPr>
              <a:t>quadro europeo delle qualifiche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lnSpc>
                <a:spcPct val="80000"/>
              </a:lnSpc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40458c"/>
                </a:solidFill>
                <a:latin typeface="Tahoma"/>
              </a:rPr>
              <a:t>dipartimenti 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lnSpc>
                <a:spcPct val="80000"/>
              </a:lnSpc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40458c"/>
                </a:solidFill>
                <a:latin typeface="Tahoma"/>
              </a:rPr>
              <a:t>comitato tecnico-scientifico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lnSpc>
                <a:spcPct val="80000"/>
              </a:lnSpc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40458c"/>
                </a:solidFill>
                <a:latin typeface="Tahoma"/>
              </a:rPr>
              <a:t>ufficio tecnico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lnSpc>
                <a:spcPct val="80000"/>
              </a:lnSpc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40458c"/>
                </a:solidFill>
                <a:latin typeface="Tahoma"/>
              </a:rPr>
              <a:t>competenze, abilità, conoscenze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lnSpc>
                <a:spcPct val="80000"/>
              </a:lnSpc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40458c"/>
                </a:solidFill>
                <a:latin typeface="Tahoma"/>
              </a:rPr>
              <a:t>laboratori e laboratorialità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lnSpc>
                <a:spcPct val="80000"/>
              </a:lnSpc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40458c"/>
                </a:solidFill>
                <a:latin typeface="Tahoma"/>
              </a:rPr>
              <a:t>insegnamento in lingua straniera di una disciplina non linguistica (CLIL)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lnSpc>
                <a:spcPct val="80000"/>
              </a:lnSpc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40458c"/>
                </a:solidFill>
                <a:latin typeface="Tahoma"/>
              </a:rPr>
              <a:t>integrazione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3C2A0-B56B-40A4-AEA9-311C519844BD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660066"/>
                </a:solidFill>
                <a:latin typeface="Tahoma"/>
              </a:rPr>
              <a:t>Un punto chiave dei nuovi ordinamenti: la quota di autonomia</a:t>
            </a:r>
            <a:endParaRPr b="0" lang="en-US" sz="3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84240" y="2020680"/>
            <a:ext cx="7556400" cy="44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>
                <a:solidFill>
                  <a:srgbClr val="40458c"/>
                </a:solidFill>
                <a:latin typeface="Times New Roman"/>
              </a:rPr>
              <a:t>…</a:t>
            </a:r>
            <a:r>
              <a:rPr b="1" i="1" lang="it-IT" sz="2500" spc="-1" strike="noStrike">
                <a:solidFill>
                  <a:srgbClr val="40458c"/>
                </a:solidFill>
                <a:latin typeface="Tahoma"/>
              </a:rPr>
              <a:t>le origini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DM n. 234 del 26.06.2000 (regol. art. 8 DPR 275/99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imes New Roman"/>
              </a:rPr>
              <a:t>…</a:t>
            </a: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Quota nazionale e quota riservata alle istituzioni scolastiche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85% quota nazionale obbligatoria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15% quota riservata alle scuole da utilizzare per: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Finalit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: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Nuove discipline; 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personalizzazione dei curricoli; valorizzazione del merito, potenziamento, sostegno e recupero nelle difficolt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 di apprendimento; laboratori, educazioni)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1AD3A-A399-4419-BA5F-14045908C995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la quota di autonomi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Times New Roman"/>
              </a:rPr>
              <a:t>…</a:t>
            </a:r>
            <a:r>
              <a:rPr b="1" i="1" lang="it-IT" sz="2800" spc="-1" strike="noStrike">
                <a:solidFill>
                  <a:srgbClr val="40458c"/>
                </a:solidFill>
                <a:latin typeface="Tahoma"/>
              </a:rPr>
              <a:t>la continuazion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DM 28 dic 2005 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(Ministro Moratti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80% quota nazionale obbligatoria (solo per II Ciclo)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20% quota riservata alle scuole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disposizioni estese anche al 1° Ciclo dal </a:t>
            </a:r>
            <a:r>
              <a:rPr b="1" lang="it-IT" sz="2200" spc="-1" strike="noStrike">
                <a:solidFill>
                  <a:srgbClr val="40458c"/>
                </a:solidFill>
                <a:latin typeface="Tahoma"/>
              </a:rPr>
              <a:t>Decreto Ministeriale n. 47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 del 13 giugno 2006 (Ministro Fioroni)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ahoma"/>
              </a:rPr>
              <a:t>DPR n. 89 del 20.03.2009</a:t>
            </a: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7030a0"/>
                </a:solidFill>
                <a:latin typeface="Times New Roman"/>
              </a:rPr>
              <a:t>“</a:t>
            </a:r>
            <a:r>
              <a:rPr b="0" lang="it-IT" sz="2400" spc="-1" strike="noStrike">
                <a:solidFill>
                  <a:srgbClr val="7030a0"/>
                </a:solidFill>
                <a:latin typeface="Tahoma"/>
              </a:rPr>
              <a:t>Regolamento su Scuola dell</a:t>
            </a:r>
            <a:r>
              <a:rPr b="0" lang="it-IT" sz="2400" spc="-1" strike="noStrike">
                <a:solidFill>
                  <a:srgbClr val="7030a0"/>
                </a:solidFill>
                <a:latin typeface="Times New Roman"/>
              </a:rPr>
              <a:t>’</a:t>
            </a:r>
            <a:r>
              <a:rPr b="0" lang="it-IT" sz="2400" spc="-1" strike="noStrike">
                <a:solidFill>
                  <a:srgbClr val="7030a0"/>
                </a:solidFill>
                <a:latin typeface="Tahoma"/>
              </a:rPr>
              <a:t>infanzia e primo Ciclo di istruzione</a:t>
            </a:r>
            <a:r>
              <a:rPr b="0" lang="it-IT" sz="2400" spc="-1" strike="noStrike">
                <a:solidFill>
                  <a:srgbClr val="7030a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838080" y="1714320"/>
            <a:ext cx="7772400" cy="43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40458c"/>
                </a:solidFill>
                <a:uFillTx/>
                <a:latin typeface="Tahoma"/>
              </a:rPr>
              <a:t>Scuola secondaria di I grad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L'orario annuale obbligatorio delle lezioni nella scuola secondaria di I grado e' di complessive 990 ore, corrispondente a 29 ore settimanali, piu' 33 ore annuali da destinare ad attivita' di approfondimento riferita agli insegnamenti di materie letterarie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93C44-23BB-4A0D-9BFC-FF363CB318DA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5:46:55Z</dcterms:created>
  <dc:creator> </dc:creator>
  <dc:description/>
  <cp:keywords/>
  <dc:language>en-US</dc:language>
  <cp:lastModifiedBy>Valued Acer Customer</cp:lastModifiedBy>
  <dcterms:modified xsi:type="dcterms:W3CDTF">2014-03-19T22:47:06Z</dcterms:modified>
  <cp:revision>271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31040</vt:lpwstr>
  </property>
</Properties>
</file>