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5A43-EC79-484C-ADFC-CB7EE0161F4D}" type="slidenum">
              <a:rPr b="0" lang="it-IT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6ED3-EE34-442F-9C25-32A22BEE2E13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AEE3-D025-450F-AE15-18CAC60F9472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B688-886B-4AF5-B2D0-042D5AEFA5C4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0292-D058-470A-9807-D320ADDFC085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9494-160E-4D5E-8141-8C5E5087F19A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8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AE6D-FDA5-49AE-87BF-B3E97399F91A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1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B4CB-A8B6-4CE7-B005-C1B94660B062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4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B38F-85C8-4B9D-A9A3-1C3EC8CC9233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C7E9-1C14-484D-90D0-A1FD08E594CD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EB3B-9BF2-4654-8AC3-71D2C231C02C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674A-3A97-4BC9-920F-83FA42BDC60B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8AA5-1813-47AC-BBF9-EF65AD4324EA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F203-2CF8-46BA-892C-4BD488E42CAC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82E0-90E7-4F3F-AB47-9098863BA392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428F-DD6E-42E4-9D9E-E1E443369AA1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3349-29CC-472D-8D4D-04C0B5108E39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5A73-9FAD-47E1-9D35-76BB1EBF2F08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20B5-0210-4F0A-9CD5-3C62F14C8FDD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9C65-7085-47E2-9C5A-2394FF1AFB2F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9355-455F-4CE9-A0C4-FC9AA2A03108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1D48-3640-476B-BBBE-C4C7EDBB6DF9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970F-67CB-4287-84D2-0198D6D1C5EA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25CA-9C72-4F97-8433-FF5A3CC90D90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87E5-85B6-419A-B336-EE77702A2F97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A0D0-53F7-476C-A4A1-83025E15E4D0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35E6-FD51-404D-B94A-37DE9E30B417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8DE0-F9A8-43BF-ADDB-5FFFD9468C70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8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780B-F6E8-4BD0-BB0F-A563CA7CD07A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1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A2AE-E4D0-4B1D-A5E8-056BCDBCBC4A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4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8468-8461-4629-94C7-4CD86C2039C8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7862-3785-40A0-B769-1C40270E9F63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E782-D82C-439A-B570-4BE49AB7D6E6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0149-04EA-43B1-B988-15C202E7E03E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1130-F8F3-4A59-963C-AE1B5D4526A0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84A4-03F2-435A-A5FB-D46E49178625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C8DF-946B-41FD-94EE-6481B293EC0F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C070-8906-4639-A24F-DEE23F809840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C749-3398-4C61-BDA6-8B2F7D8536EC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32C3-FEAD-489F-ADE1-C17B794BB9A2}" type="slidenum">
              <a:rPr b="0" lang="it-IT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5" name="Text Box 2"/>
          <p:cNvSpPr/>
          <p:nvPr/>
        </p:nvSpPr>
        <p:spPr>
          <a:xfrm>
            <a:off x="2124000" y="754200"/>
            <a:ext cx="254952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6AE5-719C-4917-9716-655734C627D0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0B95-67EC-4A8D-8B5D-A61A79A71A5F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9F17-792C-4041-9F28-1AC931BE11D4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8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0210-2B8F-4F2B-8342-D1A8B28A01A6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3662-4A75-4242-BF3C-E4D3315C1BE1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D472-6DA7-44AC-B498-C6779BFEB78D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DABB-3349-4E84-994F-8E1C028746CA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6C88-5739-4F56-9DCD-0EFB4436DB0C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890B-B2DA-45CA-9D1C-54A02FBBE8F4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4068-0B51-44EE-805B-06854DBA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C5E1-C46D-421C-B745-D95595E9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94AD-0805-44FF-85EC-12CC2DD0E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C37C-03CC-4E15-967E-8B722775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066A-1DC4-4C4A-B7C8-75E0077AA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759C-A845-4375-8A28-30E144A0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D7F4-B679-4F22-BC2B-3BAA0055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6E6A-BF8A-4C9B-BB85-EA4DE89D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C846-DFCA-4A75-AA4C-3A7165D4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341D-F8FC-49E5-A789-A9DD8A19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D3B9-B841-4021-AD19-B41C2CD6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1CC9-63A4-490E-BB88-F64DCFB4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BF50-704D-4E98-BD61-B3F4EFEF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1697-B2B1-4C2C-BF59-9E9C1885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B999-E642-4495-8CEF-DA815D03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6B98-830D-4998-AF4E-9FE6F64F8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6ED6-75D1-4051-B3A0-687D05939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79C6-8FA7-419F-9BE5-99BA1B0C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83EA-7911-437C-B336-99004AC1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63AE-3539-4042-BA0D-FBA1FDC6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8F5D-FA3A-40DC-A84A-0DC0FFE4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C1D1-E389-480F-B29D-58BE56C1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97F3-3159-4886-8CFC-5E01D249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2975-5E6F-458F-A541-49CC4A65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EFE1-8211-41E0-B4CC-71B37C1FB81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102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1028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1029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1030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1031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1032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1033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34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35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036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037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038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039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040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041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042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043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044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045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046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047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048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049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50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051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052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053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054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1055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1056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057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058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059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060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061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062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063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064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065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066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067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068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069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070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071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072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073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074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075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076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077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078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079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080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1081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1082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1083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1084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1085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108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1087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1088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1089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1090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BA9A-77C0-4A84-AA99-C1A3238A56C7}" type="slidenum"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09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8AA9-B488-470C-8596-6558FE747761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PAS 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–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Univ. di Pisa</a:t>
            </a:r>
            <a:br>
              <a:rPr sz="2300"/>
            </a:b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Corso di Didattica Generale e Pedagogia Sperimentale</a:t>
            </a:r>
            <a:br>
              <a:rPr sz="2000"/>
            </a:b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.A. 2013/2014</a:t>
            </a:r>
            <a:br>
              <a:rPr sz="2300"/>
            </a:br>
            <a:br>
              <a:rPr sz="2300"/>
            </a:b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Gli ordinamenti:</a:t>
            </a:r>
            <a:br>
              <a:rPr sz="4400"/>
            </a:br>
            <a:r>
              <a:rPr b="0" lang="it-IT" sz="2700" spc="-1" strike="noStrike">
                <a:solidFill>
                  <a:srgbClr val="4b34f4"/>
                </a:solidFill>
                <a:latin typeface="Tahoma"/>
              </a:rPr>
              <a:t>quadro normativo di riferimento</a:t>
            </a:r>
            <a:r>
              <a:rPr b="0" lang="it-IT" sz="27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27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38080" y="330948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40458c"/>
                </a:solidFill>
                <a:latin typeface="Tahoma"/>
              </a:rPr>
              <a:t>Il sistema educativo di istruzione e form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40458c"/>
                </a:solidFill>
                <a:latin typeface="Tahoma"/>
              </a:rPr>
              <a:t>Davide Capperucc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40458c"/>
                </a:solidFill>
                <a:uFillTx/>
                <a:latin typeface="Tahoma"/>
              </a:rPr>
              <a:t>Scuola secondaria di I grado</a:t>
            </a:r>
            <a:br>
              <a:rPr sz="60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38080" y="149976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Nel tempo prolungato il monte ore e' determinato mediamente in 36 ore settimanali, elevabili fino a 40, comprensive delle ore destinate agli insegnamenti e alle attivita' e al tempo dedicato alla mens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Le classi a «tempo prolungato» sono autorizzate nei limiti della dotazione organica assegnata a ciascuna provinci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943A-64FF-41AD-9EF5-29ED45DE46F3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40458c"/>
                </a:solidFill>
                <a:latin typeface="Tahoma"/>
              </a:rPr>
              <a:t>Corsi ad indirizzo musical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I corsi ad indirizzo musicale si svolgono oltre l'orario obbligatorio delle lezion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Valorizzazione dell'apprendimento pratico, anche con l'ausilio di laboratori musicali, nei limiti delle risorse esistenti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B64F-AB11-4D4A-BEE9-304AD220191B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nglese potenzia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38080" y="1643040"/>
            <a:ext cx="77724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A decorrere dall'anno scolastico 2009/2010, a richiesta delle famiglie e compatibilmente con le disponibilita' di organico e l'assenza di esubero dei docenti della seconda lingua comunitaria, e‘ introdotto l'insegnamento dell'inglese potenziato anche utilizzando le 2 ore di insegnamento della seconda lingua comunitari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94B3-FFF3-4913-8B9C-2FFAB452B339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7030a0"/>
                </a:solidFill>
                <a:latin typeface="Tahoma"/>
              </a:rPr>
              <a:t>Seconda lingua comunitaria per Italiano L2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Le ore della seconda lingua comunitaria sono utilizzate anche per potenziare l'insegnamento della lingua italiana per gli alunni stranieri non in possesso delle necessarie conoscenze e competenze nella medesima lingua italiana nel rispetto dell'autonomia delle scuo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AA75-79F8-4DE3-AD2E-10B563CB9582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A035-CF06-447C-85F3-1FB24D2876A9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Riordino secondaria II grado: </a:t>
            </a:r>
            <a:br>
              <a:rPr sz="3100"/>
            </a:b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autonomia - flessibilit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à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 - quote</a:t>
            </a:r>
            <a:br>
              <a:rPr sz="3100"/>
            </a:br>
            <a:endParaRPr b="0" lang="en-US" sz="3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55640" y="1500120"/>
            <a:ext cx="7696080" cy="45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Istituti tecnici e professional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Quota di autonomia</a:t>
            </a: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20% dei curricoli (per tutto il quinquennio) per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potenziare gli insegnamenti obbligatori per tutti gli student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attivare ulteriori insegnament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Vincoli: Contingente di organico assegnato annualment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Calcolo su orario complessivo delle lezioni del primo bienni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Calcolo su orario complessivo delle lezioni del successivo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trienni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Ciascuna disciplina non può essere decurtata per pi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ù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del 20%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previsto dai quadri orari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7FDE-32FA-4493-B172-5BC209AA6A0A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Con il riordino: autonomia 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–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 flessibilit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à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 - quote</a:t>
            </a:r>
            <a:br>
              <a:rPr sz="3100"/>
            </a:br>
            <a:endParaRPr b="0" lang="en-US" sz="3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643040"/>
            <a:ext cx="77724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Lice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Quota dei piani di studio rimessa alle singole istituzioni scolastich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Fino al</a:t>
            </a: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</a:rPr>
              <a:t>20%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del monte ore complessivo nel primo biennio,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Fino al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</a:rPr>
              <a:t>30%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nel secondo biennio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Fino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</a:rPr>
              <a:t>20%</a:t>
            </a: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nel quinto ann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Vincoli: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contingente di organico ad esse annualmente assegnat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richieste degli studenti e delle loro famigli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orario previsto dal piano di studio di ciascuna disciplina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non può essere ridotto in misura  superiore a 1/3 nell'arco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dei cinque anni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non possono essere soppresse le discipline previste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nell'ultimo anno di corso nei piani di studi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6041-640D-404F-85FC-2A6B42B21F0A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Con il riordino: autonomia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–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flessibilit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à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 - 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quote</a:t>
            </a:r>
            <a:br>
              <a:rPr sz="3100"/>
            </a:br>
            <a:endParaRPr b="0" lang="en-US" sz="3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7896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Spazi di flessibilit</a:t>
            </a:r>
            <a:r>
              <a:rPr b="1" lang="it-IT" sz="1500" spc="-1" strike="noStrike">
                <a:solidFill>
                  <a:srgbClr val="40458c"/>
                </a:solidFill>
                <a:latin typeface="Times New Roman"/>
              </a:rPr>
              <a:t>à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Finalit</a:t>
            </a:r>
            <a:r>
              <a:rPr b="0" lang="it-IT" sz="1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- possibilit</a:t>
            </a:r>
            <a:r>
              <a:rPr b="0" lang="it-IT" sz="1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 di articolare in </a:t>
            </a: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opzioni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 le aree di indirizzo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- corrispondere alle esigenze del territorio e ai fabbisogni formativi espressi dal mondo del lavoro e delle professioni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Consistenza: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istituti tecnici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: 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con riferimento all'orario annuale delle lezioni: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entro il 30% nel secondo biennio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entro il 35% nell'ultimo anno;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Istituti professionali: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a) 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con riferimento all'orario annuale delle lezioni,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entro il 35% nel secondo biennio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entro il 40% nell'ultimo anno;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b) 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nel primo biennio entro il 25% dell'orario annuale delle lezioni per svolgere un ruolo integrativo e complementare rispetto al sistema dell'istruzione e della formazione professionale regionale.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Nei regolamenti sono previsti elenchi nazionali per l</a:t>
            </a:r>
            <a:r>
              <a:rPr b="0" lang="it-IT" sz="1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attivazione di opzioni.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EDDC-836F-4BD0-9EB4-6E4792DA477A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European Qualifications Framework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Cornice europea di riferimento ad otto livelli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descritti in termini di competenze (non di titoli)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La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Raccomandazione del Parlamento e del Consiglio Europeo del 23 aprile 2008 relativa a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dozione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QF a livello comunitario, stabilisce che entro il 2010 i paesi membri dovranno rapportare i propri sistemi nazionali di qualificazione a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QF,ed entro il 2012 dovranno indicare, nei singoli certificati di qualifica, un riferimento al livello corrispondente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QF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700" spc="-1" strike="noStrike">
                <a:solidFill>
                  <a:srgbClr val="40458c"/>
                </a:solidFill>
                <a:latin typeface="Tahoma"/>
              </a:rPr>
              <a:t>per quanto riguarda l</a:t>
            </a:r>
            <a:r>
              <a:rPr b="0" i="1" lang="it-IT" sz="17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1700" spc="-1" strike="noStrike">
                <a:solidFill>
                  <a:srgbClr val="40458c"/>
                </a:solidFill>
                <a:latin typeface="Tahoma"/>
              </a:rPr>
              <a:t>ordinamento italiano: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-446040">
              <a:lnSpc>
                <a:spcPct val="80000"/>
              </a:lnSpc>
              <a:spcBef>
                <a:spcPts val="425"/>
              </a:spcBef>
              <a:buSzPct val="11309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EQF1 = diploma del 1° Ciclo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-446040">
              <a:lnSpc>
                <a:spcPct val="80000"/>
              </a:lnSpc>
              <a:spcBef>
                <a:spcPts val="425"/>
              </a:spcBef>
              <a:buSzPct val="11309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EQF2 = obbligo di istruzione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-446040">
              <a:lnSpc>
                <a:spcPct val="80000"/>
              </a:lnSpc>
              <a:spcBef>
                <a:spcPts val="425"/>
              </a:spcBef>
              <a:buSzPct val="11309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EQF3 = qualifica professionale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-446040">
              <a:lnSpc>
                <a:spcPct val="80000"/>
              </a:lnSpc>
              <a:spcBef>
                <a:spcPts val="425"/>
              </a:spcBef>
              <a:buSzPct val="11309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EQF4 = diploma del 2° Ciclo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4" marL="1954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40458c"/>
                </a:solidFill>
                <a:latin typeface="Tahoma"/>
              </a:rPr>
              <a:t>vedi DM 139/2007 (allegato tecnico)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40458c"/>
                </a:solidFill>
                <a:latin typeface="Tahoma"/>
              </a:rPr>
              <a:t>DPR n. 122 del 22 giugno 2009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2316-B72A-4FAF-9D54-12EDC1E38628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Strumenti per le innovazioni: i dipartiment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3000" spc="-1" strike="noStrike">
                <a:solidFill>
                  <a:srgbClr val="40458c"/>
                </a:solidFill>
                <a:latin typeface="Times New Roman"/>
              </a:rPr>
              <a:t>(si) </a:t>
            </a:r>
            <a:r>
              <a:rPr b="0" i="1" lang="it-IT" sz="3000" spc="-1" strike="noStrike">
                <a:solidFill>
                  <a:srgbClr val="40458c"/>
                </a:solidFill>
                <a:latin typeface="Tahoma"/>
              </a:rPr>
              <a:t>possono costituire, senza nuovi o maggiori oneri per la finanza pubblica, dipartimenti, quali articolazioni funzionali del collegio dei docenti, per il sostegno alla progettazione formativa e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3000" spc="-1" strike="noStrike">
                <a:solidFill>
                  <a:srgbClr val="40458c"/>
                </a:solidFill>
                <a:latin typeface="Tahoma"/>
              </a:rPr>
              <a:t>alla didattica</a:t>
            </a:r>
            <a:r>
              <a:rPr b="0" i="1" lang="it-IT" sz="30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2CDE-8016-4CC2-AEDD-881C21991E7E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 dipartiment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Nei regolamenti non vengono date indicazioni sulle modalit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organizzativ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potesi possibil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rganizzazione per assi culturali (secondo le indicazioni dell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bbligo di istruzion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 dipartimenti sono funzionali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lla progettazione per competenze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lla progettazione multidisciplinare e, per questo, di percorsi per il conseguimento delle competenze di cittadinanza come individuate in sede U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3BDE-B99A-4BE7-9DF8-1E4746016095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500" spc="-1" strike="noStrike">
                <a:solidFill>
                  <a:srgbClr val="660066"/>
                </a:solidFill>
                <a:latin typeface="Tahoma"/>
              </a:rPr>
              <a:t>Gli ordinamenti</a:t>
            </a:r>
            <a:endParaRPr b="0" lang="en-US" sz="4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22960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Testo unico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delle leggi sull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’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struzione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D.Lgs. 297/1994 (dall’art. 5 all’art. 15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Delega al Governo per il conferimento di funzioni alle regioni e agli Enti locali per la riforma della PA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n. 59/97 (art. 21)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 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Conferimento di funzioni alle Regioni e agli Enti locali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artt. 137, 138, 139,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Arial Unicode MS"/>
              </a:rPr>
              <a:t>D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.Lgs 112/98)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Regolamento dell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’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autonomia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in attuazione dell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’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art. 21 della L. 59/97),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DPR 275/99 (artt. 1, 3, 4, 5, 6, 7, 8, 9, 11, 14)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Costituzionale n. 3/2001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(Titolo V, artt. 114,116, 117, 118)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  <a:ea typeface="Arial Unicode MS"/>
              </a:rPr>
              <a:t>Riforma Moratti: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53/2003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e Decreti Legislativi</a:t>
            </a:r>
            <a:br>
              <a:rPr sz="1800"/>
            </a:b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(sul primo ciclo, n. 59/04; su INVALSI, n. 286/04; su diritto-dovere a istruzione e formazione, n. 76/05; su alternanza scuola-lavoro, n. 77/05; sul secondo ciclo, n. 226/05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innalzamento obbligo di istruzione,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  <a:ea typeface="Arial Unicode MS"/>
              </a:rPr>
              <a:t>DM n. 139/2007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 </a:t>
            </a:r>
            <a:br>
              <a:rPr sz="1800"/>
            </a:b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(in attuazione comma 622 legge 296/06)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951C-DA21-4A91-8E57-7F5C375B23FE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Strumenti per le innovazioni: il Comitato tecnico scientifico 1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…”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possono dotarsi, senza nuovi o maggiori oneri per la finanza pubblica, di un comitato (tecnico) scientifico composto di docenti e di esperti del mondo del lavoro, delle professioni, della ricerca scientifica e tecnologica, delle universit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e delle istituzioni di alta formazione artistica, musicale e coreutica, con funzioni </a:t>
            </a:r>
            <a:r>
              <a:rPr b="0" i="1" lang="it-IT" sz="2400" spc="-1" strike="noStrike">
                <a:solidFill>
                  <a:srgbClr val="ff0066"/>
                </a:solidFill>
                <a:latin typeface="Tahoma"/>
              </a:rPr>
              <a:t>consultive e di proposta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per l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2400" spc="-1" strike="noStrike">
                <a:solidFill>
                  <a:srgbClr val="ff0000"/>
                </a:solidFill>
                <a:latin typeface="Tahoma"/>
              </a:rPr>
              <a:t>organizzazione e l'utilizzazione degli spazi di autonomia e flessibilit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; ai componenti del comitato non spettano compensi a nessun titolo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8306-340C-4D32-AB73-B9C50C831D11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Comitato tecnico scientifico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40458c"/>
                </a:solidFill>
                <a:latin typeface="Tahoma"/>
              </a:rPr>
              <a:t>Il Comitato tecnico scientific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Fa proposte, sulla scorta delle analisi dei bisogni del territorio, al consiglio di istituto, al dirigente e, per le materie di sua competenza, al collegio dei docenti  pe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utilizzazione degli spazi di autonomia e flessibilit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l'organizzazione delle aree di indirizz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62D0-628F-4461-ADF5-1A5E320BD025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Comitato tecnico scientifico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992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l recupero della centra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dei laboratori anche come metodologia di base per tutte le discipline;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a centra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delle forme miste nei percorsi di studio: stage, tirocini, alternanza scuola-lavoro, non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ggiuntivi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alle lezioni e ai laboratori, ma integrate nel curricolo;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organizzazione in dipartimenti, fondamentale se si vuole realizzare una progettazione formativa per competenze, che richiede livelli elevati di ricerca e di progettazione. I dipartimenti dovrebbero supportare il lavoro dei docenti e dei consigli di classe, fornendo metodologie e strumenti di lavoro;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a possibi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per ogni istituto di stipulare contratti con esperti esterni per sviluppare competenze specialistiche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083B-4204-4C5A-9D2D-6596C6BC7670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L</a:t>
            </a:r>
            <a:r>
              <a:rPr b="0" lang="it-IT" sz="4400" spc="-1" strike="noStrike">
                <a:solidFill>
                  <a:srgbClr val="660066"/>
                </a:solidFill>
                <a:latin typeface="Times New Roman"/>
              </a:rPr>
              <a:t>’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ufficio tec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24"/>
              </a:spcBef>
              <a:buSzPct val="14480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Gli istituti professionali per il settore industria ed artigianato e gli istituti tecnici per il settore tecnologico sono dotati di un ufficio tecnico con il compito di sostenere la migliore organizzazione e funzionalit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dei laboratori a fini didattici e il loro adeguamento in relazione alle esigenze poste dall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innovazione tecnologica nonch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é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per la sicurezza delle persone e dell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ambiente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24"/>
              </a:spcBef>
              <a:buSzPct val="14480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Si apre una possibilit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concreta di costruire archivi di esperienze didattiche innovative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9D86-6BB4-4985-8280-E124A35CC850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660066"/>
                </a:solidFill>
                <a:latin typeface="Tahoma"/>
              </a:rPr>
              <a:t>Competenze, abilit</a:t>
            </a:r>
            <a:r>
              <a:rPr b="0" lang="it-IT" sz="2900" spc="-1" strike="noStrike">
                <a:solidFill>
                  <a:srgbClr val="660066"/>
                </a:solidFill>
                <a:latin typeface="Times New Roman"/>
              </a:rPr>
              <a:t>à</a:t>
            </a:r>
            <a:r>
              <a:rPr b="0" lang="it-IT" sz="2900" spc="-1" strike="noStrike">
                <a:solidFill>
                  <a:srgbClr val="660066"/>
                </a:solidFill>
                <a:latin typeface="Tahoma"/>
              </a:rPr>
              <a:t>, conoscenze</a:t>
            </a:r>
            <a:endParaRPr b="0" lang="en-US" sz="29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20600" y="1714680"/>
            <a:ext cx="755496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>
              <a:lnSpc>
                <a:spcPct val="90000"/>
              </a:lnSpc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competenze: 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comprovata capacit</a:t>
            </a:r>
            <a:r>
              <a:rPr b="0" i="1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 di usare conoscenze ed abilit</a:t>
            </a:r>
            <a:r>
              <a:rPr b="0" i="1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 in modo autonomo in situazioni di lavoro o di studio e nello sviluppo personale o professionale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-441360">
              <a:lnSpc>
                <a:spcPct val="90000"/>
              </a:lnSpc>
              <a:spcBef>
                <a:spcPts val="624"/>
              </a:spcBef>
              <a:buSzPct val="1132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abilit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capacit</a:t>
            </a:r>
            <a:r>
              <a:rPr b="0" i="1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 di applicare conoscenze per portare a termine compiti e risolvere problemi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-441360">
              <a:lnSpc>
                <a:spcPct val="90000"/>
              </a:lnSpc>
              <a:spcBef>
                <a:spcPts val="624"/>
              </a:spcBef>
              <a:buSzPct val="1132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conoscenze: 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fatti, principi, teorie relativi al settore di studio o di lavoro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0" algn="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marL="441360" indent="0" algn="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marL="441360" indent="0" algn="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300" spc="-1" strike="noStrike">
                <a:solidFill>
                  <a:srgbClr val="40458c"/>
                </a:solidFill>
                <a:latin typeface="Tahoma"/>
              </a:rPr>
              <a:t>riferimento: decreto ministeriale n. 139/07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5C28-84A0-42D7-B86A-D9F1E8847B21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obbligo di istruzione: </a:t>
            </a:r>
            <a:br>
              <a:rPr sz="4200"/>
            </a:b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gli assi culturali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ono 4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sse dei linguagg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-3873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lingua madre, lingua straniera, multimedi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sse matematic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-3873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ritmetica, algebra, geometria, rappresentazioni grafiche, </a:t>
            </a:r>
            <a:r>
              <a:rPr b="0" i="1" lang="it-IT" sz="2000" spc="-1" strike="noStrike">
                <a:solidFill>
                  <a:srgbClr val="40458c"/>
                </a:solidFill>
                <a:latin typeface="Tahoma"/>
              </a:rPr>
              <a:t>problem solv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sse scientifico-tecnologic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-3873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scienze naturali, trasformazioni di energia, rapporti fra tecnologie ed ambiente, applicazioni informatich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sse storico-socia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-3873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storia, economia, cittadinanz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0" algn="r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300" spc="-1" strike="noStrike">
                <a:solidFill>
                  <a:srgbClr val="40458c"/>
                </a:solidFill>
                <a:latin typeface="Tahoma"/>
              </a:rPr>
              <a:t>riferimento: decreto ministeriale n. 139/07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0" algn="r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C4F2-AB67-43F3-9574-C47D3C802754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raccomandazioni europee:</a:t>
            </a:r>
            <a:br>
              <a:rPr sz="4200"/>
            </a:b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le competenze chiave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6760" y="2160720"/>
            <a:ext cx="6929280" cy="38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unicazione nella madrelingua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unicazione nelle lingue stranier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petenza matematica e competenze di  base scientifiche e tecnologich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spcAft>
                <a:spcPts val="862"/>
              </a:spcAft>
              <a:buSzPct val="11326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petenza digital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mparare ad imparar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petenze sociali e civich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senso di iniziativa ed imprenditoria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nsapevolezza ed espressione culturali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e prime quattro sono legate ai saperi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e altre quattro al saper essere e saper far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32DC-24A6-4769-86BB-5731C97D8844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Allegato 2 del regolamento DM 139/2007</a:t>
            </a:r>
            <a:br>
              <a:rPr sz="3300"/>
            </a:b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Le competenze di cittadinanza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Imparare ad imparar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: organizzare il proprio apprendimento, individuando, scegliendo ed utilizzando varie fonti e varie modal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di informazione e di formazione (formale, non formale ed informale), anche in funzione dei tempi disponibili, delle proprie strategie e del proprio metodo di studio e di lavoro.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Progettar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: elaborare e realizzare progetti riguardanti lo sviluppo delle proprie attiv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di studio e di lavoro, utilizzando le conoscenze apprese per stabilire obiettivi significativi e realistici e le relative prior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, valutando i vincoli e le possibil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esistenti, definendo strategie di azione e verificando i risultati raggiunti.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Comunicar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o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     </a:t>
            </a:r>
            <a:r>
              <a:rPr b="0" i="1" lang="it-IT" sz="1400" spc="-1" strike="noStrike">
                <a:solidFill>
                  <a:srgbClr val="40458c"/>
                </a:solidFill>
                <a:latin typeface="Tahoma"/>
              </a:rPr>
              <a:t>comprender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messaggi di genere diverso (quotidiano, letterario, tecnico, scientifico) e di compless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diversa, trasmessi utilizzando linguaggi diversi (verbale, matematico, scientifico, simbolico, ecc.) mediante diversi supporti (cartacei, informatici e multimediali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o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i="1" lang="it-IT" sz="1400" spc="-1" strike="noStrike">
                <a:solidFill>
                  <a:srgbClr val="40458c"/>
                </a:solidFill>
                <a:latin typeface="Tahoma"/>
              </a:rPr>
              <a:t>rappresentar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eventi, fenomeni, principi, concetti, norme, procedure, atteggiamenti, stati d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animo, emozioni, ecc. utilizzando linguaggi diversi (verbale, matematico, scientifico, simbolico, ecc.) e diverse conoscenze disciplinari, mediante diversi supporti (cartacei, informatici e multimediali).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Collaborare e partecipare:</a:t>
            </a:r>
            <a:r>
              <a:rPr b="0" i="1" lang="it-IT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interagire in gruppo, comprendendo i diversi punti di vista, valorizzando le proprie e le altrui capac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, gestendo la conflittual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, contribuendo all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apprendimento comune ed alla realizzazione delle attiv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collettive, nel riconoscimento dei diritti fondamentali degli altri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A334-0029-43B0-A635-57234F33557B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Allegato 2 del regolamento DM 139/2007</a:t>
            </a:r>
            <a:br>
              <a:rPr sz="3300"/>
            </a:b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Le competenze di cittadinanza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Agire in modo autonomo e responsabil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sapersi inserire in modo attivo e consapevole nella vita sociale e far valere al suo interno i propri diritti e bisogni riconoscendo al contempo quelli altrui, le opportunit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comuni, i limiti, le regole, le responsabilit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Risolvere problemi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affrontare situazioni problematiche costruendo e verificando ipotesi, individuando le fonti e le risorse adeguate, raccogliendo e valutando i dati, proponendo soluzioni utilizzando, secondo il tipo di problema, contenuti e metodi delle diverse discipline.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Individuare collegamenti e relazioni: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individuare e rappresentare, elaborando argomentazioni coerenti, collegamenti e relazioni tra fenomeni, eventi e concetti diversi, anche appartenenti a diversi ambiti disciplinari, e lontani nello spazio e nel tempo, cogliendone la natura sistemica, individuando analogie e differenze, coerenze ed incoerenze, cause ed effetti e la loro natura probabilistica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Acquisire ed interpretare l</a:t>
            </a:r>
            <a:r>
              <a:rPr b="1" lang="it-IT" sz="16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informazion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acquisire ed interpretare criticamente l'informazione ricevuta nei diversi ambiti ed attraverso diversi strumenti comunicativi, valutandone l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attendibilit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e l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utilit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, distinguendo fatti e opinioni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7DBD-9C78-4D8D-8C3E-C0160A16C027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9" name="Picture 3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324000" y="260280"/>
            <a:ext cx="770544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EC05-D296-4A1F-A4A7-D8D591A4D317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500" spc="-1" strike="noStrike">
                <a:solidFill>
                  <a:srgbClr val="660066"/>
                </a:solidFill>
                <a:latin typeface="Tahoma"/>
              </a:rPr>
              <a:t>Gli ordinamenti</a:t>
            </a:r>
            <a:endParaRPr b="0" lang="en-US" sz="4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40458c"/>
                </a:solidFill>
                <a:latin typeface="Arial Unicode MS"/>
                <a:ea typeface="Arial Unicode MS"/>
              </a:rPr>
              <a:t>❒ </a:t>
            </a:r>
            <a:r>
              <a:rPr b="1" lang="it-IT" sz="1900" spc="-1" strike="noStrike">
                <a:solidFill>
                  <a:srgbClr val="40458c"/>
                </a:solidFill>
                <a:latin typeface="Arial Unicode MS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Arial Unicode MS"/>
                <a:ea typeface="Arial Unicode MS"/>
              </a:rPr>
              <a:t>R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forma istruzione tecnica: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n. 40/2007 art. 1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DPCM 25 gennaio 2008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recante linee guida per la riorganizzazione del Sistema di istruzione e formazione tecnica superiore e la costituzione degli Istituti Tecnici Superiori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Decreto-Legge 25 giugno 2008, n. 112 </a:t>
            </a:r>
            <a:r>
              <a:rPr b="1" i="1" lang="it-IT" sz="18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di conversione 6 agosto 2008, n. 133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Disposizioni   urgenti  per  lo  sviluppo  economico,  la semplificazione,  la competitivit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la stabilizzazione della finanza pubblica e la perequazione tributaria.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</a:t>
            </a:r>
            <a:r>
              <a:rPr b="1" lang="it-IT" sz="18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art. 64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comma, 3 del DL, prevede un </a:t>
            </a:r>
            <a:r>
              <a:rPr b="0" lang="it-IT" sz="1800" spc="-1" strike="noStrike">
                <a:solidFill>
                  <a:srgbClr val="ff0000"/>
                </a:solidFill>
                <a:latin typeface="Tahoma"/>
              </a:rPr>
              <a:t>Piano programmatic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del Ministero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Istruzione,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Univers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e della Ricerca di concerto con il Ministro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conomia e delle Finanze (predisposto il 4 settembre 2008)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Decreto-Legge 1 settembre 2008, n. 137 </a:t>
            </a:r>
            <a:r>
              <a:rPr b="1" i="1" lang="it-IT" sz="18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di conversione 30 ottobre 2008, n. 169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Disposizioni urgenti in materia di istruzione e universit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.</a:t>
            </a:r>
            <a:br>
              <a:rPr sz="1800"/>
            </a:b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(maestro unico, valutazione in decimi, voto di condotta, libri di testo).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FCFB-FDA9-4B63-A800-D872235B2CD3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2" name="Picture 3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0" y="0"/>
            <a:ext cx="835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8AEC-746A-402A-B401-126C3E2C89E0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 livel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Livello bas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: lo studente svolge compiti semplici in situazioni note,mostrando di possedere conoscenze ed abi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essenziali e di saper applicare regole e procedure fondamentali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Nel caso in cui non sia stato raggiunto il livello base,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riportata l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spression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livello base non raggiunt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con l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indicazione della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relativa motivazion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Livello intermedi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: lo studente svolge compiti e risolve problemi complessi in situazioni note, compie scelte consapevoli, mostrando di saper utilizzare le conoscenze e le abi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acquisite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Livello avanzato: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lo studente svolge compiti e problemi complessi in situazioni anche non note, mostrando padronanza n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uso delle conoscenze e delle abi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. Sa proporre e sostenere le proprie opinioni e assumere autonomamente decisioni consapevol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3518-3CB4-489A-AD93-B8C08D2CE2C4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Indicazioni nazionali per i Licei e Linee guida per IT e IP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7083720" cy="48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Indicazioni nazionali per i Licei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per riferimento alla Legge 53/03 e al D.Lgs 226/05 che viene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riordinato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- Linee guida per IT e IP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per l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attuazione della Legge 40/2007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Non ci sono pi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ù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i 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programmi ministeriali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sulle discipline di insegnamento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il MIUR d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Indicazioni alle scuole (profili, obiettivi generali, obiettivi specifici) sui </a:t>
            </a: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risultati di apprendimento</a:t>
            </a: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 descritti per: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competenze</a:t>
            </a:r>
            <a:r>
              <a:rPr b="0" lang="it-IT" sz="17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(per 1° biennio, 2° biennio, 5° anno, con l</a:t>
            </a:r>
            <a:r>
              <a:rPr b="0" lang="it-IT" sz="17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indicazione delle discipline che concorrono al loro raggiungimento)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b34f4"/>
                </a:solidFill>
                <a:latin typeface="Tahoma"/>
              </a:rPr>
              <a:t>attraverso</a:t>
            </a: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 abilit</a:t>
            </a:r>
            <a:r>
              <a:rPr b="1" lang="it-IT" sz="1700" spc="-1" strike="noStrike">
                <a:solidFill>
                  <a:srgbClr val="ff0000"/>
                </a:solidFill>
                <a:latin typeface="Times New Roman"/>
              </a:rPr>
              <a:t>à e </a:t>
            </a: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conoscenze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- I docenti individuano i percorsi formativi (conoscenze correlate alle abilit</a:t>
            </a:r>
            <a:r>
              <a:rPr b="1" lang="it-IT" sz="1700" spc="-1" strike="noStrike">
                <a:solidFill>
                  <a:srgbClr val="ff0000"/>
                </a:solidFill>
                <a:latin typeface="Times New Roman"/>
              </a:rPr>
              <a:t>à</a:t>
            </a: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) per il conseguimento delle competenze indicate.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9272-8E17-4FBD-ABBD-1B63169460CF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Laboratori e laboratorialit</a:t>
            </a:r>
            <a:r>
              <a:rPr b="0" lang="it-IT" sz="4400" spc="-1" strike="noStrike">
                <a:solidFill>
                  <a:srgbClr val="660066"/>
                </a:solidFill>
                <a:latin typeface="Times New Roman"/>
              </a:rPr>
              <a:t>à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 percorsi degli IT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…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si realizzano attraverso metodologie finalizzate a sviluppare, con particolare riferimento alle attivit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e agli insegnamenti di indirizzo, competenze basate sulla </a:t>
            </a:r>
            <a:r>
              <a:rPr b="0" i="1" lang="it-IT" sz="2300" spc="-1" strike="noStrike">
                <a:solidFill>
                  <a:srgbClr val="f04010"/>
                </a:solidFill>
                <a:latin typeface="Tahoma"/>
              </a:rPr>
              <a:t>didattica di laboratorio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2300" spc="-1" strike="noStrike">
                <a:solidFill>
                  <a:srgbClr val="f04010"/>
                </a:solidFill>
                <a:latin typeface="Tahoma"/>
              </a:rPr>
              <a:t>l'analisi e la soluzione dei problemi, il lavoro per progetti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; sono orientati alla gestione di processi in contesti organizzati e all'uso di modelli e linguaggi specifici; sono strutturati in modo da favorire un collegamento organico con il mondo del lavoro e delle professioni, compresi il volontariato ed il privato sociale. Stage, tirocini e alternanza scuola lavoro sono strumenti didattici per la realizzazione dei percorsi di studio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.(art. 5, c. 2/e)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91AF-20A6-483C-BE9A-42C05CF19D57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Laboratori e laboratorialit</a:t>
            </a:r>
            <a:r>
              <a:rPr b="0" lang="it-IT" sz="4400" spc="-1" strike="noStrike">
                <a:solidFill>
                  <a:srgbClr val="660066"/>
                </a:solidFill>
                <a:latin typeface="Times New Roman"/>
              </a:rPr>
              <a:t>à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I percorsi liceali forniscono allo studente gli strumenti culturali e metodologici per una comprensione approfondita della realt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, affinch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é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egli si ponga, con atteggiamento razionale,creativo, </a:t>
            </a:r>
            <a:r>
              <a:rPr b="0" i="1" lang="it-IT" sz="2400" spc="-1" strike="noStrike">
                <a:solidFill>
                  <a:srgbClr val="f04010"/>
                </a:solidFill>
                <a:latin typeface="Tahoma"/>
              </a:rPr>
              <a:t>progettuale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e critico, di fronte alle situazioni, ai fenomeni e ai problemi, ed acquisisca </a:t>
            </a:r>
            <a:r>
              <a:rPr b="0" i="1" lang="it-IT" sz="2400" spc="-1" strike="noStrike">
                <a:solidFill>
                  <a:srgbClr val="f04010"/>
                </a:solidFill>
                <a:latin typeface="Tahoma"/>
              </a:rPr>
              <a:t>conoscenze, abilit</a:t>
            </a:r>
            <a:r>
              <a:rPr b="0" i="1" lang="it-IT" sz="2400" spc="-1" strike="noStrike">
                <a:solidFill>
                  <a:srgbClr val="f04010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f04010"/>
                </a:solidFill>
                <a:latin typeface="Tahoma"/>
              </a:rPr>
              <a:t> e competenze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coerenti con le capacit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e le scelte personali e adeguate al proseguimento degli studi di ordine superiore, all'inserimento nella vita sociale e nel mondo del lavoro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.(art. 2, c.2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FA47-3FDA-44F9-88FA-DB1E44DE9E4A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Metodologie innovativ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04010"/>
                </a:solidFill>
                <a:latin typeface="Tahoma"/>
              </a:rPr>
              <a:t>didattica laboratoriale e in laborator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04010"/>
                </a:solidFill>
                <a:latin typeface="Tahoma"/>
              </a:rPr>
              <a:t>analisi e soluzione dei problem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04010"/>
                </a:solidFill>
                <a:latin typeface="Tahoma"/>
              </a:rPr>
              <a:t>lavoro per progett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tirocini e alternanza scuola lavor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cooperative learn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uso di tecnologie avanza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8623-8989-4C2C-84FF-9188967C1B5A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660066"/>
                </a:solidFill>
                <a:latin typeface="Tahoma"/>
              </a:rPr>
              <a:t>CLIL - </a:t>
            </a:r>
            <a:r>
              <a:rPr b="0" lang="it-IT" sz="2900" spc="-1" strike="noStrike">
                <a:solidFill>
                  <a:srgbClr val="660066"/>
                </a:solidFill>
                <a:latin typeface="Tahoma"/>
              </a:rPr>
              <a:t>Content and Language Integrated Learning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Nei Licei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Fatto salvo quanto stabilito specificamente per il percorso del liceo linguistico*, nel quinto anno 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impartito l'insegnamento, in lingua straniera, di una disciplina non linguistica compresa nell'area delle attivit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e degli insegnamenti obbligatori per tutti gli studenti o nell'area degli insegnamenti attivabili dalle istituzioni scolastiche nei limiti del contingente di organico ad esse annualmente assegnato . Tale insegnamento 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attivato in ogni caso nei limiti degli organici determinati a legislazione vigente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Negli IT la lingua che si utilizza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l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nglese ed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scelta tra quelle dell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rea di indirizzo del quinto ann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*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Nei licei linguistici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si inizia dal primo anno del secondo bienni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49AA-FA9B-4491-9E7D-91599B98F11F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quadro ordinamenti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21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spcAft>
                <a:spcPts val="938"/>
              </a:spcAft>
              <a:buSzPct val="14480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scuola dell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infanzia: 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re anni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SzPct val="14480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1° ciclo: 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scuola primaria: 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cinque anni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scuola secondaria di primo grado: 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tre anni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sono individuati i 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traguardi di competenza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Pubblicata (nov 2012) la revisione delle Indicazioni per il 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curricolo per la scuola dell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infanzia e il primo ciclo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2° ciclo: 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licei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cinque anni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istituti tecnici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imes New Roman"/>
              </a:rPr>
              <a:t>“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istituti professionali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imes New Roman"/>
              </a:rPr>
              <a:t>“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sono individuati i 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risultati di apprendimento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BCAE-3EDE-4BD1-AEF7-53B1A0D35572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 lice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 </a:t>
            </a:r>
            <a:r>
              <a:rPr b="1" lang="it-IT" sz="2300" spc="-1" strike="noStrike">
                <a:solidFill>
                  <a:srgbClr val="40458c"/>
                </a:solidFill>
                <a:latin typeface="Tahoma"/>
              </a:rPr>
              <a:t>licei 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sono sei, con indirizzi e opzioni: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artistico con sei indirizzi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rti figurativ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rchitettura e ambient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Design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udiovisivo e multimedial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Grafica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Scenografia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classico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linguistico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musicale e coreutico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scientifico con opzione scienze applicat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scienze umane con opzione economico-sociale 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1A4A-63BD-450D-85CD-10342F3228E7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Gli Istituti tecnici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Gli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stituti Tecnic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sono organizzati in due settori con undici indirizzi (con articolazioni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Settore economic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con due indirizz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mministrazione, Finanza e Marketing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Relazioni internazionali per il Marketing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Sistemi informativi aziendali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Turism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Settore tecnologic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con nove indirizzi (con articolazioni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Meccanica, Meccatronica ed Energi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Meccanica e meccatron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d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nergi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Trasporti e Logistic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Costruzione del mezz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Conduzione del mezz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Logist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lettronica ed Elettrotecnic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lettron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lettrotecn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utomazione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D849-E1D9-423B-BAD9-78E7BD157899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660066"/>
                </a:solidFill>
                <a:latin typeface="Tahoma"/>
              </a:rPr>
              <a:t>Gli ordinamenti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85520" y="1904760"/>
            <a:ext cx="78246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  <a:ea typeface="Arial Unicode MS"/>
              </a:rPr>
              <a:t>DPR n. 81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  <a:ea typeface="Arial Unicode MS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  <a:ea typeface="Arial Unicode MS"/>
              </a:rPr>
              <a:t>del 20.03.2009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  <a:ea typeface="Arial Unicode MS"/>
              </a:rPr>
              <a:t>,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Regolamento su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Norme per la riorganizzazione della rete scolastica e il razionale ed efficace utilizzo delle risorse umane della scuola, ai sensi dell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articolo 64, comma 4, del decreto legge 25 giugno 2008, n. 112, convertito con modificazioni della legge 6 agosto 2008, </a:t>
            </a:r>
            <a:r>
              <a:rPr b="1" i="1" lang="it-IT" sz="2400" spc="-1" strike="noStrike">
                <a:solidFill>
                  <a:srgbClr val="40458c"/>
                </a:solidFill>
                <a:latin typeface="Tahoma"/>
              </a:rPr>
              <a:t>n.133</a:t>
            </a:r>
            <a:r>
              <a:rPr b="1" i="1" lang="it-IT" sz="24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1" i="1" lang="it-IT" sz="24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53AB-BBB8-4F2D-AB16-A485DFBA6F57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Gli istituti tecnici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Informatica e Telecomunicazion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Informatica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Telecomunicazioni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Grafica e Comunicazione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Chimica, Materiali e Biotecnologie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Chimica e materiali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Biotecnologie ambientali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Biotecnologie sanitarie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Sistema Moda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Tessile, abbigliamento e moda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Calzature e moda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graria, Agroalimentare e Agroindustria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Produzioni e trasformazioni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Gestione dell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ambiente e del territorio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Viticoltura ed enologia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Costruzioni, Ambiente e Territorio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e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Geotecnico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2378-D039-4785-929A-20B07C130E83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Gli Istituti professiona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Gli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stituti professional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sono organizzati in due settori e sei indirizzi (con articolazioni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Settore serviz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con quattro indirizz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Per 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gricoltura e lo sviluppo rural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Socio sanitari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 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rti ausiliarie delle professioni sanitarie, Odontotecnic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rti ausiliarie delle professioni sanitarie, Ottic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Per 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nogastronomia e 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ospita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alberghier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nogastronomi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Servizi di sala e di vendit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ccoglienza turist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Commercial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Settor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ndustria e artigianat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con due indirizzi (con articolazioni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Produzioni artigianali e industrial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Industri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rtigianat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Manutenzione e assistenza tecnic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5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999D-6AA8-4FD1-B48C-FD62FF502BCB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0DF1-BFAE-4BF5-A815-DF3ABAD17C5E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3" name="Text Box 2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660066"/>
                </a:solidFill>
                <a:latin typeface="Arial"/>
                <a:ea typeface="Lucida Sans Unicode"/>
              </a:rPr>
              <a:t>Obbligo e diritto-dovere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6560" indent="-4665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obbligo di istruzione:</a:t>
            </a:r>
            <a:r>
              <a:rPr b="0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fino a 16 anni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66560" indent="-4665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466560" indent="-466560">
              <a:lnSpc>
                <a:spcPct val="80000"/>
              </a:lnSpc>
              <a:spcBef>
                <a:spcPts val="499"/>
              </a:spcBef>
              <a:spcAft>
                <a:spcPts val="587"/>
              </a:spcAft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- nel 1° biennio del secondo ciclo, </a:t>
            </a:r>
            <a:r>
              <a:rPr b="0" i="1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oppure</a:t>
            </a: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 </a:t>
            </a:r>
            <a:br>
              <a:rPr sz="1900"/>
            </a:b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- nei percorsi di istruzione e formazione professionale (in attuazione del capo III del D.Lgs 226/05 e dell’Intesa del 16 dic 2010)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561"/>
              </a:spcAft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- </a:t>
            </a: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ei percorsi formativi previsti dalla legge sull’apprendistato 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innalzata l’età di accesso a 16 anni da Legge finanziaria 2007, è stato approvato nella Legge n.183/2010, “Collegato al lavoro”, un ritorno alla soglia minima di 15 anni, con compimento di obbligo nei percorsi per apprendistato, disposizione confermata nel </a:t>
            </a:r>
            <a:r>
              <a:rPr b="1" lang="it-IT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TU 167/2011</a:t>
            </a:r>
            <a:r>
              <a:rPr b="0" lang="it-IT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587"/>
              </a:spcAft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Vige il D.Lgs 76/2005 su “Diritto – Dovere a istruzione e formazione professionale” per il quale si resta in formazione fino a 18 anni (salvo conseguimento di qualifica professionale entro i 18 anni)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5B8E-E0B6-4874-8D31-E1BE883D344B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ahoma"/>
              </a:rPr>
              <a:t>titoli di studio e qualifiche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Istituti tecnici rilasciano diplom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Istituti professionali rilasciano diplom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Licei rilasciano diplomi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Gli istituti professionali rilasciano diplomi quinquennali; in sussidiarie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 con le Regioni, possono rilasciare qualifiche triennali o diplomi professionali quadriennali (compresi nel repertorio nazionale di cui alla Legge 40/07) secondo le due modali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 dell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Intesa del 16 dic 2010: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- offerta sussidiaria integrativ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B- offerta sussidiaria complementar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olo per gli iscritti alle classi prime dell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.s. 2010-11 vige il regime surrogatorio (si rilasciano ancora qualifiche triennali)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utti i diplomi danno accesso agli studi superiori universitari o tecnici (Istituti Tecnici Superiori) e al mondo del lavor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Riferimento obbligatorio (entro il 2012) al sistema EQF: European Qualifications Framework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0666-08C7-4E7C-BB7A-24FBE61D04E5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3246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Intesa Stato-Regioni 16 dicembre 2010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25336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Si definiscono i rapporti tra istituti professionali e istruzione e formazione professionale di competenza regionale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intesa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riguarda l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dozione di linee-guida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ttua una previsione legislativa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legge 2 aprile 2007, n. 40 art. 13.1.5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consente di conseguire 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qualifiche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negli istituti professionali di sta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40458c"/>
                </a:solidFill>
                <a:latin typeface="Tahoma"/>
              </a:rPr>
              <a:t>in regime integrativ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40458c"/>
                </a:solidFill>
                <a:latin typeface="Tahoma"/>
              </a:rPr>
              <a:t>in regime complementa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la decisione spetta a ciascuna Region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ACC3-211C-457E-BF6F-60DF06A8B249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stituti professiona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CM 101 del 30 dicembre 2010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Tipologia A </a:t>
            </a:r>
            <a:r>
              <a:rPr b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offerta sussidiaria integrativa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(Linee guida, capo II, punto 2)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Gli studenti che chiedono di iscriversi alla classe prima degli indirizzi quinquennali degli istituti professionali di cui all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llegato 1 possono contestualmente chiedere anche di poter conseguire una qualifica professionale di cui all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llegato 2 a conclusione del terzo anno. A tal fine, gli istituti professionali propongono agli studenti e alle loro famiglie i percorsi d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qualifica corrispondenti, in base a quanto previsto dalla tabella allegato n. 3, a quelli realizzati nel corrente anno scolastico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F6CD-8003-4E92-B48A-893CFBF2D678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stituti professiona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tipologia B 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offerta sussidiaria complementare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(Linee guida, capo II, punto 2)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Tale tipologia può trovare attuazione solo qualora il competente Assessorato regionale decida, in attuazione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ccordo territoriale col competente USR per la prima attuazione delle linee guida, di attivare presso gli istituti professionali classi prime che assumano gli standard formativi e la regolamentazione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ordinamento dei percorsi triennali di IeFP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In tale caso possono iscriversi a detti corsi gli studenti che intendano conseguire solo i titoli di qualifica triennali di cui al Capo II, punto 2, delle Linee guida. 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iscrizione ai citati percorsi avverr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secondo moda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e procedure operative da concordare sulla base delle indicazioni che le singole Regioni forniranno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78A4-46F0-42CB-BF9C-D81DE6F42629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660066"/>
                </a:solidFill>
                <a:latin typeface="Tahoma"/>
              </a:rPr>
              <a:t>Gli ordinamenti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33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0000"/>
                </a:solidFill>
                <a:latin typeface="Tahoma"/>
              </a:rPr>
              <a:t>DPR n. 89 del 20.03.2009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7030a0"/>
                </a:solidFill>
                <a:latin typeface="Times New Roman"/>
              </a:rPr>
              <a:t>“</a:t>
            </a:r>
            <a:r>
              <a:rPr b="0" lang="it-IT" sz="2000" spc="-1" strike="noStrike">
                <a:solidFill>
                  <a:srgbClr val="7030a0"/>
                </a:solidFill>
                <a:latin typeface="Tahoma"/>
              </a:rPr>
              <a:t>Regolamento su Scuola dell</a:t>
            </a:r>
            <a:r>
              <a:rPr b="0" lang="it-IT" sz="2000" spc="-1" strike="noStrike">
                <a:solidFill>
                  <a:srgbClr val="7030a0"/>
                </a:solidFill>
                <a:latin typeface="Times New Roman"/>
              </a:rPr>
              <a:t>’</a:t>
            </a:r>
            <a:r>
              <a:rPr b="0" lang="it-IT" sz="2000" spc="-1" strike="noStrike">
                <a:solidFill>
                  <a:srgbClr val="7030a0"/>
                </a:solidFill>
                <a:latin typeface="Tahoma"/>
              </a:rPr>
              <a:t>infanzia e primo Ciclo di istruzione</a:t>
            </a:r>
            <a:r>
              <a:rPr b="0" lang="it-IT" sz="2000" spc="-1" strike="noStrike">
                <a:solidFill>
                  <a:srgbClr val="7030a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1900" spc="-1" strike="noStrike">
                <a:solidFill>
                  <a:srgbClr val="ff0000"/>
                </a:solidFill>
                <a:latin typeface="Tahoma"/>
              </a:rPr>
              <a:t>DPR n. 87, 15 marzo 2010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 recante norme concernenti il riordino degli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istituti professionali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 ai sensi dell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rt. 64, comma 4, del decreto legge 25 giugno 2008 n. 112, convertito dalla legge 6 agosto 2008, n. 133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1900" spc="-1" strike="noStrike">
                <a:solidFill>
                  <a:srgbClr val="ff0000"/>
                </a:solidFill>
                <a:latin typeface="Tahoma"/>
              </a:rPr>
              <a:t>DPR n. 88, 15 marzo 2010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 recante norme concernenti il riordino degli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istituti tecnici 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i sensi dell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rt. 64, comma 4, del decreto legge 25 giugno 2008 n. 112, convertito dalla legge 6 agosto 2008, n. 133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900" spc="-1" strike="noStrike">
                <a:solidFill>
                  <a:srgbClr val="ff0000"/>
                </a:solidFill>
                <a:latin typeface="Tahoma"/>
              </a:rPr>
              <a:t>DPR n. 89, 15 marzo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900" spc="-1" strike="noStrike">
                <a:solidFill>
                  <a:srgbClr val="ff0000"/>
                </a:solidFill>
                <a:latin typeface="Tahoma"/>
              </a:rPr>
              <a:t>2010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 recante 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Revisione dell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ssetto ordinamentale, organizzativo e didattico dei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licei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, ai sensi dell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rt. 64, comma 4, del decreto legge 25 giugno 2008 n. 112, convertito dalla legge 6 agosto 2008, n. 133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0308-BAE6-4405-AFC9-7026A0F6EC64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3640" y="174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innovazioni e nuovi punti di riferime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38080" y="164304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40458c"/>
                </a:solidFill>
                <a:latin typeface="Tahoma"/>
              </a:rPr>
              <a:t>innovazioni strutturali dei regolamenti di riordino del primo e del secondo ciclo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60080" indent="-460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autonomia e flessibilit</a:t>
            </a:r>
            <a:r>
              <a:rPr b="0" lang="it-IT" sz="2600" spc="-1" strike="noStrike">
                <a:solidFill>
                  <a:srgbClr val="40458c"/>
                </a:solidFill>
                <a:latin typeface="Times New Roman"/>
              </a:rPr>
              <a:t>à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quadro europeo delle qualifich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dipartimenti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comitato tecnico-scientific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ufficio tecnic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competenze, abilità, conoscenz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laboratori e laboratorialità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insegnamento in lingua straniera di una disciplina non linguistica (CLIL)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integrazion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B6A5-CBF3-45B5-9065-B4E8CDC109A9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660066"/>
                </a:solidFill>
                <a:latin typeface="Tahoma"/>
              </a:rPr>
              <a:t>Un punto chiave dei nuovi ordinamenti: la quota di autonomia</a:t>
            </a:r>
            <a:endParaRPr b="0" lang="en-US" sz="3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84240" y="2020680"/>
            <a:ext cx="7556400" cy="44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40458c"/>
                </a:solidFill>
                <a:latin typeface="Times New Roman"/>
              </a:rPr>
              <a:t>…</a:t>
            </a:r>
            <a:r>
              <a:rPr b="1" i="1" lang="it-IT" sz="2500" spc="-1" strike="noStrike">
                <a:solidFill>
                  <a:srgbClr val="40458c"/>
                </a:solidFill>
                <a:latin typeface="Tahoma"/>
              </a:rPr>
              <a:t>le origini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DM n. 234 del 26.06.2000 (regol. art. 8 DPR 275/99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imes New Roman"/>
              </a:rPr>
              <a:t>…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Quota nazionale e quota riservata alle istituzioni scolastiche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85% quota nazionale obbligatoria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15% quota riservata alle scuole da utilizzare per: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Fina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Nuove discipline; 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personalizzazione dei curricoli; valorizzazione del merito, potenziamento, sostegno e recupero nelle difficol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di apprendimento; laboratori, educazioni)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80C8-1EF7-4DF9-A590-3F15023056E9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la quota di autonomi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…</a:t>
            </a:r>
            <a:r>
              <a:rPr b="1" i="1" lang="it-IT" sz="2800" spc="-1" strike="noStrike">
                <a:solidFill>
                  <a:srgbClr val="40458c"/>
                </a:solidFill>
                <a:latin typeface="Tahoma"/>
              </a:rPr>
              <a:t>la continu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DM 28 dic 2005 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(Ministro Moratti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80% quota nazionale obbligatoria (solo per II Ciclo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20% quota riservata alle scuole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disposizioni estese anche al 1° Ciclo dal </a:t>
            </a: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Decreto Ministeriale n. 47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del 13 giugno 2006 (Ministro Fioroni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DPR n. 89 del 20.03.2009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7030a0"/>
                </a:solidFill>
                <a:latin typeface="Times New Roman"/>
              </a:rPr>
              <a:t>“</a:t>
            </a:r>
            <a:r>
              <a:rPr b="0" lang="it-IT" sz="2400" spc="-1" strike="noStrike">
                <a:solidFill>
                  <a:srgbClr val="7030a0"/>
                </a:solidFill>
                <a:latin typeface="Tahoma"/>
              </a:rPr>
              <a:t>Regolamento su Scuola dell</a:t>
            </a:r>
            <a:r>
              <a:rPr b="0" lang="it-IT" sz="2400" spc="-1" strike="noStrike">
                <a:solidFill>
                  <a:srgbClr val="7030a0"/>
                </a:solidFill>
                <a:latin typeface="Times New Roman"/>
              </a:rPr>
              <a:t>’</a:t>
            </a:r>
            <a:r>
              <a:rPr b="0" lang="it-IT" sz="2400" spc="-1" strike="noStrike">
                <a:solidFill>
                  <a:srgbClr val="7030a0"/>
                </a:solidFill>
                <a:latin typeface="Tahoma"/>
              </a:rPr>
              <a:t>infanzia e primo Ciclo di istruzione</a:t>
            </a:r>
            <a:r>
              <a:rPr b="0" lang="it-IT" sz="2400" spc="-1" strike="noStrike">
                <a:solidFill>
                  <a:srgbClr val="7030a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8080" y="171432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40458c"/>
                </a:solidFill>
                <a:uFillTx/>
                <a:latin typeface="Tahoma"/>
              </a:rPr>
              <a:t>Scuola secondaria di I grad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L'orario annuale obbligatorio delle lezioni nella scuola secondaria di I grado e' di complessive 990 ore, corrispondente a 29 ore settimanali, piu' 33 ore annuali da destinare ad attivita' di approfondimento riferita agli insegnamenti di materie letterarie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8A4C-E4DC-405D-AAE2-80A81CF3EC15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5:46:55Z</dcterms:created>
  <dc:creator> </dc:creator>
  <dc:description/>
  <cp:keywords/>
  <dc:language>en-US</dc:language>
  <cp:lastModifiedBy>Valued Acer Customer</cp:lastModifiedBy>
  <dcterms:modified xsi:type="dcterms:W3CDTF">2014-03-19T22:47:06Z</dcterms:modified>
  <cp:revision>27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31040</vt:lpwstr>
  </property>
</Properties>
</file>