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078E-8AD8-4E7A-A159-DA54DC87A83C}" type="slidenum">
              <a:rPr b="0" lang="it-IT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E252-EF4B-4768-90BA-24EFDA4893A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4A37-A423-43D9-A7A2-4EE8CAB24AA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49B4-B4B1-4DBB-92D2-A245C457342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C819-00D3-4BF8-8AB6-50F9593E1CB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0487-153A-46D0-98AB-EAC4070D01E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608A-B085-4090-AF70-D6B3C051E96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34F3-EF24-4A85-8E08-58D58A30FC4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918F-38E0-4D31-BFE7-11DDD511A07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8B50-174C-4D1D-B31C-5FFC1F62663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8A02-F3D8-4192-97D4-C054E4DD795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A499-55A0-4AA7-ABE0-B69E0F5A091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0271-9D44-412B-9ED4-4B016EBFFD0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B5FE-7AD0-4681-BCD8-C8F54FE5E04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EF01-7E67-48F9-8642-067C446C702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6B0D-FBCC-429E-98F4-D92C9120A5A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CA33-2D50-4F34-8951-B4CDA663D88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0445-DB71-4512-B724-DE1C15814C1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4546-BE77-456F-8C8F-848126995C9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5498-E759-4BF7-ACD9-063A0AAF4BD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F7D0-9578-4C61-A400-3D858E5B0A8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029A-6183-4A6D-B00E-FE622DAB2A4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4E6D-3B90-4554-95E3-6E4F94E3122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BE55-B5E9-46DB-93A7-B722325E8D6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8BCD-C89E-41A5-9789-0A862680FAA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FBFE-ADCD-4F50-B16D-BE0E8E86BA2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A7DA-DB3C-466A-B42E-A01E34689BA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78F5-7437-42BD-B8E6-D0C1E82E657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6F9A-36D3-44F4-8C95-7779E981A49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FA1F-D249-453B-B60C-1055BB6AA11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F0B7-D439-4AD7-9F70-A318B63C44E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39CA-9ACE-4DEE-B568-40D9D188038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0876-B964-47CC-A6A6-9F22CA068FD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F111-9DA4-40E9-B2B1-F6E20506BC2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706-7B99-4D31-AC14-AA8C2D89F9C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D8C3-5A39-4DC9-A6EC-6FDCEBA90CC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379C-611B-4C88-868F-7E8F20D5DD2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F1ED-CAB2-4759-8BB7-FF014A9567F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CBD8-59F6-4830-98DA-969B7CCD9E7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8631-2469-44E4-A70C-D39A245880FB}" type="slidenum">
              <a:rPr b="0" lang="it-IT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A5FD-5597-4FED-8DE9-0B37C7E936D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0B2C-550E-453A-A4F7-8D7532DC48A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0AA6-DD65-41F1-A5AF-73FF8E81D03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1504-A0A4-4104-90C7-7FA524A0334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AC0D-EFFE-4D46-B587-82877E896DD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182D-53E8-4971-B283-90E3D7FE999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E8EE-9C41-4202-AB07-F69EB608EE8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F463-44CC-447E-94C1-A25C29AB05F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7E5A-C51D-4363-94CC-741AF5FE838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5DA-7521-4244-9508-6884099A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AC9-20A4-4576-A67D-630A88B1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EED-07D3-4B0F-984D-ABE51D3F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8AC-6DF0-4830-A903-010D101F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5795-DDB6-48AF-AA83-8804AFBF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1F02-CCDC-4337-8D77-E8731EC1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37A6-655E-4794-978F-ED34B84E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5542-8692-4C94-B7CB-38E30AFD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6653-AC0C-40DD-8370-2B265BA0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6B70-AF98-49C3-8F9A-135ACD00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A104-74C4-4AF8-BAA8-79CF770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C88-DF4B-4D3F-96B8-B8640D54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246E-7D85-4F6B-A783-D654CFB8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7096-B502-41F3-9700-68D85F1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25A8-936A-42C4-B18B-2FF7E724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81CD-96BF-4F5A-9F89-36F5EB0E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A5A0-6197-4C57-88A0-52378E3C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769-68CB-4535-BCD9-BFB2A916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5F7-D17A-4ED9-89FE-8EC2E3C0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201-F566-4852-B0A6-C6E3E8F9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645-6BE9-447C-BCC1-552A8DE1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734-12CD-4020-970C-3C0C6C14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5C9-24BD-4FC0-887E-4350B03A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FF7-BF66-44C3-8F3A-30A6007D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1E50-5406-48DA-B296-61C978DC8D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F619-92F9-4A0C-BD2E-3097A5FB962A}" type="slidenum"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9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07FD-FD9E-445C-B852-106B473CFEC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PAS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–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Univ. di Pisa</a:t>
            </a:r>
            <a:br>
              <a:rPr sz="23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rso di Didattica Generale e Pedagogia Sperimentale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.A. 2013/2014</a:t>
            </a:r>
            <a:br>
              <a:rPr sz="2300"/>
            </a:br>
            <a:br>
              <a:rPr sz="23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ordinamenti:</a:t>
            </a:r>
            <a:br>
              <a:rPr sz="4400"/>
            </a:br>
            <a:r>
              <a:rPr b="0" lang="it-IT" sz="2700" spc="-1" strike="noStrike">
                <a:solidFill>
                  <a:srgbClr val="4b34f4"/>
                </a:solidFill>
                <a:latin typeface="Tahoma"/>
              </a:rPr>
              <a:t>quadro normativo di riferimento</a:t>
            </a:r>
            <a:r>
              <a:rPr b="0" lang="it-IT" sz="27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330948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Il sistema educativo di istruzione e form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Davide Capperuc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br>
              <a:rPr sz="6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14997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Nel tempo prolungato il monte ore e' determinato mediamente in 36 ore settimanali, elevabili fino a 40, comprensive delle ore destinate agli insegnamenti e alle attivita' e al tempo dedicato alla mens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lassi a «tempo prolungato» sono autorizzate nei limiti della dotazione organica assegnata a ciascuna provin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60CA-4351-4CD0-BA55-8D03BF7CE28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Corsi ad indirizzo musica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 corsi ad indirizzo musicale si svolgono oltre l'orario obbligatorio delle lezio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Valorizzazione dell'apprendimento pratico, anche con l'ausilio di laboratori musicali, nei limiti delle risorse esistenti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756C-79F9-414A-8FB5-495B2E1D6B5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glese potenzia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A decorrere dall'anno scolastico 2009/2010, a richiesta delle famiglie e compatibilmente con le disponibilita' di organico e l'assenza di esubero dei docenti della seconda lingua comunitaria, e‘ introdotto l'insegnamento dell'inglese potenziato anche utilizzando le 2 ore di insegnamento della seconda lingua comunita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3769-7084-4FEE-B2E5-438706D23D5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Tahoma"/>
              </a:rPr>
              <a:t>Seconda lingua comunitaria per Italiano L2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ore della seconda lingua comunitaria sono utilizzate anche per potenziare l'insegnamento della lingua italiana per gli alunni stranieri non in possesso delle necessarie conoscenze e competenze nella medesima lingua italiana nel rispetto dell'autonomia delle scuo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14CC-AEBF-4A14-860C-AF8A4BB9986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129C-2D72-40BD-8F4A-215AED84213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Riordino secondaria II grado: </a:t>
            </a:r>
            <a:br>
              <a:rPr sz="3100"/>
            </a:b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autonomia -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500120"/>
            <a:ext cx="769608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Istituti tecnici e professional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Quota di autonomia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20% dei curricoli (per tutto il quinquennio) per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potenziare gli insegnamenti obbligatori per tutti gli stud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attivare ulteriori insegnam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ncoli: Contingente di organico assegnato annualmen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primo b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successivo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iascuna disciplina non può essere decurtata per pi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20%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evisto dai quadri orar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A50A-9AC3-4753-B1ED-EE6C21FADAA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 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ce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Quota dei piani di studio rimessa alle singole istituzioni scolastich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del monte ore complessivo nel primo biennio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3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nel secondo biennio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 quinto an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Vincoli: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contingente di organico ad esse annualmente assegna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richieste degli studenti e delle loro famigl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orario previsto dal piano di studio di ciascuna disciplina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on può essere ridotto in misura  superiore a 1/3 nell'arco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dei cinque ann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non possono essere soppresse le discipline previste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l'ultimo anno di corso nei piani di stud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942-4C37-46F7-A113-90863565559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89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Spazi di flessibilit</a:t>
            </a:r>
            <a:r>
              <a:rPr b="1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possibi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di articolare in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opzion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le aree di indirizzo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corrispondere alle esigenze del territorio e ai fabbisogni formativi espressi dal mondo del lavoro e delle professioni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sistenza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 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0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professional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a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,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40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b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l primo biennio entro il 25% dell'orario annuale delle lezioni per svolgere un ruolo integrativo e complementare rispetto al sistema dell'istruzione e della formazione professionale regionale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i regolamenti sono previsti elenchi nazionali per l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attivazione di opzioni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AD7D-89F2-4103-BEEE-29006E0A2E2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European Qualifications Framewor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Cornice europea di riferimento ad otto livelli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descritti in termini di competenze (non di titoli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accomandazione del Parlamento e del Consiglio Europeo del 23 aprile 2008 relativa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do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 a livello comunitario, stabilisce che entro il 2010 i paesi membri dovranno rapportare i propri sistemi nazionali di qualificazione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,ed entro il 2012 dovranno indicare, nei singoli certificati di qualifica, un riferimento al livello corrispondent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per quanto riguarda l</a:t>
            </a:r>
            <a:r>
              <a:rPr b="0" i="1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ordinamento italiano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1 = diploma del 1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2 = obbligo di istruzion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3 = qualifica professional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4 = diploma del 2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4" marL="195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vedi DM 139/2007 (allegato tecnico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DPR n. 122 del 22 giugno 2009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DB1C-43D9-4A23-B1E6-4C5212E16AE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 dipartimen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(si) 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possono costituire, senza nuovi o maggiori oneri per la finanza pubblica, dipartimenti, quali articolazioni funzionali del collegio dei docenti, per il sostegno alla progettazione formativa 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alla didattica</a:t>
            </a:r>
            <a:r>
              <a:rPr b="0" i="1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DE57-27B7-4601-A380-B8AB1D6DBE4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dipartimen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i regolamenti non vengono date indicazioni sulle moda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rganizza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potesi possibi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rganizzazione per assi culturali (secondo le indicazioni del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bbligo di istruzio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dipartimenti sono funzional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per competenze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multidisciplinare e, per questo, di percorsi per il conseguimento delle competenze di cittadinanza come individuate in sede 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2E13-0A2F-4CB4-9E8D-975B511C93E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esto unico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delle leggi su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ruzione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.Lgs. 297/1994 (dall’art. 5 all’art. 15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elega al Governo per il conferimento di funzioni alle regioni e agli Enti locali per la riforma della P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59/97 (art. 21)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Conferimento di funzioni alle Regioni e agli Enti locali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t. 137, 138, 139,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.Lgs 112/98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golamento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utonomi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in attuazione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rt. 21 della L. 59/97)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PR 275/99 (artt. 1, 3, 4, 5, 6, 7, 8, 9, 11, 14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Costituzionale n. 3/2001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Titolo V, artt. 114,116, 117, 118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Riforma Moratti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53/2003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e Decreti Legislativi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sul primo ciclo, n. 59/04; su INVALSI, n. 286/04; su diritto-dovere a istruzione e formazione, n. 76/05; su alternanza scuola-lavoro, n. 77/05; sul secondo ciclo, n. 226/05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innalzamento obbligo di istruzione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M n. 139/2007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(in attuazione comma 622 legge 296/06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FE62-0891-4FE4-A338-30BDAA3B6AF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l Comitato tecnico scientifico 1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…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ossono dotarsi, senza nuovi o maggiori oneri per la finanza pubblica, di un comitato (tecnico) scientifico composto di docenti e di esperti del mondo del lavoro, delle professioni, della ricerca scientifica e tecnologica, delle univers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delle istituzioni di alta formazione artistica, musicale e coreutica, con funzioni </a:t>
            </a:r>
            <a:r>
              <a:rPr b="0" i="1" lang="it-IT" sz="2400" spc="-1" strike="noStrike">
                <a:solidFill>
                  <a:srgbClr val="ff0066"/>
                </a:solidFill>
                <a:latin typeface="Tahoma"/>
              </a:rPr>
              <a:t>consultive e di proposta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per 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organizzazione e l'utilizzazione degli spazi di autonomia e flessibilit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; ai componenti del comitato non spettano compensi a nessun titol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7FEE-E861-4D22-A5F6-F4FBBE50DE7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Il Comitato tecnico scientif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a proposte, sulla scorta delle analisi dei bisogni del territorio, al consiglio di istituto, al dirigente e, per le materie di sua competenza, al collegio dei docenti  p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tilizzazione degli spazi di autonomia e flessibi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'organizzazione delle aree di indiriz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5251-2867-42E8-934A-F9F0E2CE90D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l recupero del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i laboratori anche come metodologia di base per tutte le discipline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lle forme miste nei percorsi di studio: stage, tirocini, alternanza scuola-lavoro, non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ggiuntivi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alle lezioni e ai laboratori, ma integrate nel curricol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organizzazione in dipartimenti, fondamentale se si vuole realizzare una progettazione formativa per competenze, che richiede livelli elevati di ricerca e di progettazione. I dipartimenti dovrebbero supportare il lavoro dei docenti e dei consigli di classe, fornendo metodologie e strumenti di lavor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possibi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per ogni istituto di stipulare contratti con esperti esterni per sviluppare competenze specialistich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ECAA-38F3-4591-81C2-CD997D48383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’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fficio tec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Gli istituti professionali per il settore industria ed artigianato e gli istituti tecnici per il settore tecnologico sono dotati di un ufficio tecnico con il compito di sostenere la migliore organizzazione e funziona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dei laboratori a fini didattici e il loro adeguamento in relazione alle esigenze poste da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novazione tecnologica nonch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per la sicurezza delle persone e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mbient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apre una possi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concreta di costruire archivi di esperienze didattiche innovativ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31D3-804F-4CDC-B841-82F4A4257CC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mpetenze, abilit</a:t>
            </a:r>
            <a:r>
              <a:rPr b="0" lang="it-IT" sz="29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, conoscenze</a:t>
            </a:r>
            <a:endParaRPr b="0" lang="en-US" sz="29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20600" y="1714680"/>
            <a:ext cx="75549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mpet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omprovata 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usare conoscenze ed abil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in modo autonomo in situazioni di lavoro o di studio e nello sviluppo personale o professional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applicare conoscenze per portare a termine compiti e risolvere problem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nosc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fatti, principi, teorie relativi al settore di studio o di lavoro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651D-020E-43BB-98F6-5EFB60A40A3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obbligo di istruzione: 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gli assi cultural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4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dei linguagg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ingua madre, lingua straniera, multimed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matemat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ritmetica, algebra, geometria, rappresentazioni grafiche,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cientifico-tecnolog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cienze naturali, trasformazioni di energia, rapporti fra tecnologie ed ambiente, applicazioni informatich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torico-soc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toria, economia, cittadinanz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753D-BB06-41B1-97F6-C0D1DE6939C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raccomandazioni europee: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le competenze chiave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6760" y="2160720"/>
            <a:ext cx="69292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a madrelingu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e lingue stranie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matematica e competenze di  base scientifiche e tecnolog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spcAft>
                <a:spcPts val="862"/>
              </a:spcAft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digit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e sociali e civ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enso di iniziativa ed imprenditori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nsapevolezza ed espressione cultural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prime quattro sono legate ai saper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altre quattro al saper essere e saper f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EE84-13B9-46C2-B18C-EF13673CD2E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organizzare il proprio apprendimento, individuando, scegliendo ed utilizzando varie fonti e varie mod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informazione e di formazione (formale, non formale ed informale), anche in funzione dei tempi disponibili, delle proprie strategie e del proprio metodo di studio e di lavoro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Proget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elaborare e realizzare progetti riguardanti lo sviluppo delle propri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studio e di lavoro, utilizzando le conoscenze apprese per stabilire obiettivi significativi e realistici e le relative prior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valutando i vincoli e le possibi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sistenti, definendo strategie di azione e verificando i risultati raggiunti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municar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comprende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messaggi di genere diverso (quotidiano, letterario, tecnico, scientifico) e di compless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versa, trasmessi utilizzando linguaggi diversi (verbale, matematico, scientifico, simbolico, ecc.) mediante diversi supporti (cartacei, informatici e multimedial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rappresen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venti, fenomeni, principi, concetti, norme, procedure, atteggiamenti, stati d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nimo, emozioni, ecc. utilizzando linguaggi diversi (verbale, matematico, scientifico, simbolico, ecc.) e diverse conoscenze disciplinari, mediante diversi supporti (cartacei, informatici e multimediali)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llaborare e partecipare: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interagire in gruppo, comprendendo i diversi punti di vista, valorizzando le proprie e le altrui capac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gestendo la conflittu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contribuendo all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pprendimento comune ed alla realizzazione dell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collettive, nel riconoscimento dei diritti fondamentali degli altri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506F-C0E7-4327-B166-D39B0FFFEE7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gire in modo autonomo e responsabil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sapersi inserire in modo attivo e consapevole nella vita sociale e far valere al suo interno i propri diritti e bisogni riconoscendo al contempo quelli altrui, le opportun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comuni, i limiti, le regole, le responsa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Risolvere problem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ffrontare situazioni problematiche costruendo e verificando ipotesi, individuando le fonti e le risorse adeguate, raccogliendo e valutando i dati, proponendo soluzioni utilizzando, secondo il tipo di problema, contenuti e metodi delle diverse disciplin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viduare collegamenti e relazioni: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cquisire ed interpretare l</a:t>
            </a:r>
            <a:r>
              <a:rPr b="1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formazion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cquisire ed interpretare criticamente l'informazione ricevuta nei diversi ambiti ed attraverso diversi strumenti comunicativi, valutandon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endi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ut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, distinguendo fatti e opinion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22D7-BC6F-4B03-A385-50E9FE7DE73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24000" y="260280"/>
            <a:ext cx="77054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8F2B-57B2-4328-835D-57016D24D26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❒ </a:t>
            </a: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R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forma istruzione tecnica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40/2007 art. 1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PCM 25 gennaio 2008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cante linee guida per la riorganizzazione del Sistema di istruzione e formazione tecnica superiore e la costituzione degli Istituti Tecnici Superior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25 giugno 2008, n. 112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6 agosto 2008, n. 133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  urgenti  per  lo  sviluppo  economico,  la semplificazione,  la competitiv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la stabilizzazione della finanza pubblica e la perequazione tributaria.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. 64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comma, 3 del DL, prevede un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iano programmat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Ministe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truzione,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nivers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della Ricerca di concerto con il Minist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conomia e delle Finanze (predisposto il 4 settembre 2008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1 settembre 2008, n. 137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30 ottobre 2008, n. 16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urgenti in materia di istruzione e univers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1800"/>
            </a:b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(maestro unico, valutazione in decimi, voto di condotta, libri di testo).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B3F6-5F9B-4357-B7A8-25C094C1391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83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B8D6-8AE7-4AEB-90F7-A739298A8DA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vel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bas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semplici in situazioni note,mostrando di possedere conoscenze ed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ssenziali e di saper applicare regole e procedure fondamental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Nel caso in cui non sia stato raggiunto il livello base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riportata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spression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ivello base non raggiun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con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icazione dell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tiva motivazi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intermed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e risolve problemi complessi in situazioni note, compie scelte consapevoli, mostrando di saper utilizzare le conoscenze e 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cquisi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avanzato: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lo studente svolge compiti e problemi complessi in situazioni anche non note, mostrando padronanza n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so delle conoscenze e del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 Sa proporre e sostenere le proprie opinioni e assumere autonomamente decisioni consapevo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6B23-1476-4102-90AE-364A45D352B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dicazioni nazionali per i Licei e Linee guida per IT e I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08372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cazioni nazionali per i Lice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riferimento alla Legge 53/03 e al D.Lgs 226/05 che viene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riordinato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- Linee guida per IT e IP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uazione della Legge 40/200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Non ci sono p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programmi ministerial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sulle discipline di inseg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l MIUR d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ndicazioni alle scuole (profili, obiettivi generali, obiettivi specifici) sui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risultati di apprendimento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 descritti per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mpetenze</a:t>
            </a: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(per 1° biennio, 2° biennio, 5° anno, con l</a:t>
            </a:r>
            <a:r>
              <a:rPr b="0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indicazione delle discipline che concorrono al loro raggiungimento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b34f4"/>
                </a:solidFill>
                <a:latin typeface="Tahoma"/>
              </a:rPr>
              <a:t>attraverso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 e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noscenz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- I docenti individuano i percorsi formativi (conoscenze correlate alle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) per il conseguimento delle competenze indicat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E7ED-7C3B-4355-A37D-57BB3E7909E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percorsi degli IT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si realizzano attraverso metodologie finalizzate a sviluppare, con particolare riferimento a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agli insegnamenti di indirizzo, competenze basate sulla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didattica di laboratorio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l'analisi e la soluzione dei problemi, il lavoro per progetti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; sono orientati alla gestione di processi in contesti organizzati e all'uso di modelli e linguaggi specifici; sono strutturati in modo da favorire un collegamento organico con il mondo del lavoro e delle professioni, compresi il volontariato ed il privato sociale. Stage, tirocini e alternanza scuola lavoro sono strumenti didattici per la realizzazione dei percorsi di studio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.(art. 5, c. 2/e)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E834-EA0F-4B0A-A250-2CC3A7B882F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 percorsi liceali forniscono allo studente gli strumenti culturali e metodologici per una comprensione approfondita della real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, affinch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gli si ponga, con atteggiamento razionale,creativo,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progettual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critico, di fronte alle situazioni, ai fenomeni e ai problemi, ed acquisisca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conoscenze, abilit</a:t>
            </a:r>
            <a:r>
              <a:rPr b="0" i="1" lang="it-IT" sz="2400" spc="-1" strike="noStrike">
                <a:solidFill>
                  <a:srgbClr val="f0401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 e competenz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coerenti con le capac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le scelte personali e adeguate al proseguimento degli studi di ordine superiore, all'inserimento nella vita sociale e nel mondo del lavor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.(art. 2, c.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5B56-4274-4030-A167-608A0958946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etodologie innova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didattica laboratoriale e in laborat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analisi e soluzione dei proble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lavoro per proget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tirocini e alternanza scuola lavo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cooperativ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uso di tecnologie avanz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3E06-D81B-4D8F-B434-1120C1F0ACA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66"/>
                </a:solidFill>
                <a:latin typeface="Tahoma"/>
              </a:rPr>
              <a:t>CLIL - 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ntent and Language Integrated Learnin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i Lice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Fatto salvo quanto stabilito specificamente per il percorso del liceo linguistico*, nel quinto ann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impartito l'insegnamento, in lingua straniera, di una disciplina non linguistica compresa nell'area de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degli insegnamenti obbligatori per tutti gli studenti o nell'area degli insegnamenti attivabili dalle istituzioni scolastiche nei limiti del contingente di organico ad esse annualmente assegnato . Tale insegnament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attivato in ogni caso nei limiti degli organici determinati a legislazione vigente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gli IT la lingua che si utilizza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nglese ed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scelta tra quelle del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ea di indirizzo del quinto ann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i licei linguistici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si inizia dal primo anno del secondo bienn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5853-F5BC-4AD1-8B4B-2081383C1D9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quadro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21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938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cuola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fanzia: 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re anni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1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primaria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secondaria di primo grado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tr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traguardi di competenza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Pubblicata (nov 2012) la revisione delle Indicazioni per il 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curricolo per la scuola dell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infanzia e il primo ciclo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2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risultati di apprendimento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C4B8-E2BD-43A7-AE0F-D2CE2CD0815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ce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1" lang="it-IT" sz="2300" spc="-1" strike="noStrike">
                <a:solidFill>
                  <a:srgbClr val="40458c"/>
                </a:solidFill>
                <a:latin typeface="Tahoma"/>
              </a:rPr>
              <a:t>licei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ono sei, con indirizzi e opzioni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artistico con sei indirizz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ti figurativ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chitettura e ambien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Design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udiovisivo e multimedi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Grafic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cenograf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class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linguis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musicale e coreu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tifico con opzione scienze applica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ze umane con opzione economico-sociale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4046-8408-476B-AA90-92ECA254F17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con undic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econom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mministrazione, Finanza e Marketing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zioni internazionali per il Marketing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istemi informativi aziendali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uris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tecnolog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nov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eccanica, Meccatronica ed Energ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Meccanica e mecca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d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erg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asporti e Logist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str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nd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og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lettronica ed Elettro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tec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utomazione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2441-E337-4AF3-A1DD-E94F4136A00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5520" y="1904760"/>
            <a:ext cx="7824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PR n. 81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el 20.03.2009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,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golamento su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Norme per la riorganizzazione della rete scolastica e il razionale ed efficace utilizzo delle risorse umane della scuola, ai sensi del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articolo 64, comma 4, del decreto legge 25 giugno 2008, n. 112, convertito con modificazioni della legge 6 agosto 2008, 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n.133</a:t>
            </a:r>
            <a:r>
              <a:rPr b="1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1D7B-F7F8-4980-8868-7A665DFB397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nformatica e Telecomunicazion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Informatic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lecomunic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rafica e Comunicazione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himica, Materiali e Biotecnologi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himica e materi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ambient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sanitarie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Sistema Mo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ssile, abbigliamento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alzature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graria, Agroalimentare e Agroindustr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Produzioni e trasform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stione dell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ambiente e del territori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Viticoltura ed enologi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struzioni, Ambiente e Territori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e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otecnic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FE6F-DFA6-425B-B85B-9190A78B85D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e se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serviz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quattro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gricoltura e lo sviluppo rur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ocio sanitari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 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dontotecn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tt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nogastronomia e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spit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lberghie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ogastronom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ervizi di sala e di vendit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ccoglienza tur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mmerc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ndustria e artigianat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oduzioni artigianali e industr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ustr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giana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nutenzione e assistenza 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9884-A96D-4C7B-A1C2-6A0A10A3E91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474B-A1FD-40E8-9035-9811D35D010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660066"/>
                </a:solidFill>
                <a:latin typeface="Arial"/>
                <a:ea typeface="Lucida Sans Unicode"/>
              </a:rPr>
              <a:t>Obbligo e diritto-dover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bbligo di istruzione: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fino a 16 anni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l 1° biennio del secondo ciclo, </a:t>
            </a:r>
            <a:r>
              <a:rPr b="0" i="1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ppure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 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i percorsi di istruzione e formazione professionale (in attuazione del capo III del D.Lgs 226/05 e dell’Intesa del 16 dic 2010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61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ei percorsi formativi previsti dalla legge sull’apprendistato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innalzata l’età di accesso a 16 anni da Legge finanziaria 2007, è stato approvato nella Legge n.183/2010, “Collegato al lavoro”, un ritorno alla soglia minima di 15 anni, con compimento di obbligo nei percorsi per apprendistato, disposizione confermata nel </a:t>
            </a: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TU 167/2011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Vige il D.Lgs 76/2005 su “Diritto – Dovere a istruzione e formazione professionale” per il quale si resta in formazione fino a 18 anni (salvo conseguimento di qualifica professionale entro i 18 anni)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B208-EB07-4C5F-BFAE-9E3ED944C7A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titoli di studio e qualifiche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tecnic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professional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Licei rilasciano diplomi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Gli istituti professionali rilasciano diplomi quinquennali; in sussidiarie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con le Regioni, possono rilasciare qualifiche triennali o diplomi professionali quadriennali (compresi nel repertorio nazionale di cui alla Legge 40/07) secondo le due modali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del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tesa del 16 dic 2010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- offerta sussidiaria integrativ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- offerta sussidiaria complement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o per gli iscritti alle classi prime del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.s. 2010-11 vige il regime surrogatorio (si rilasciano ancora qualifiche triennali)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utti i diplomi danno accesso agli studi superiori universitari o tecnici (Istituti Tecnici Superiori) e al mondo del lavo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ferimento obbligatorio (entro il 2012) al sistema EQF: European Qualifications Framework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4DEE-C468-4331-A304-5F78A37151F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Intesa Stato-Regioni 16 dicembre 2010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definiscono i rapporti tra istituti professionali e istruzione e formazione professionale di competenza regional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tes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riguarda 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dozione di linee-gui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ttua una previsione legislativ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legge 2 aprile 2007, n. 40 art. 13.1.5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nsente di conseguire 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qualifich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gli istituti professionali di st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integrat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complement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la decisione spetta a ciascuna Regi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4E28-65C0-4363-B174-B3EE02E6272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CM 101 del 30 dicembre 2010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Tipologia A </a:t>
            </a: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offerta sussidiaria integrativa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li studenti che chiedono di iscriversi alla classe prima degli indirizzi quinquennali degli istituti professionali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1 possono contestualmente chiedere anche di poter conseguire una qualifica professionale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2 a conclusione del terzo anno. A tal fine, gli istituti professionali propongono agli studenti e alle loro famiglie i percorsi d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qualifica corrispondenti, in base a quanto previsto dalla tabella allegato n. 3, a quelli realizzati nel corrente anno scolastic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4D97-07CD-4C47-BB4F-284DEA2BEED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ipologia B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offerta sussidiaria complementare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ale tipologia può trovare attuazione solo qualora il competente Assessorato regionale decida, in attu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ccordo territoriale col competente USR per la prima attuazione delle linee guida, di attivare presso gli istituti professionali classi prime che assumano gli standard formativi e la regolament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rdinamento dei percorsi triennali di IeFP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n tale caso possono iscriversi a detti corsi gli studenti che intendano conseguire solo i titoli di qualifica triennali di cui al Capo II, punto 2, delle Linee guida.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crizione ai citati percorsi avverr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econdo mod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procedure operative da concordare sulla base delle indicazioni che le singole Regioni forniranno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2B20-DB61-405C-8A91-B09D067C396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33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7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8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tecnici 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9, 15 marzo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Revisione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ssetto ordinamentale, organizzativo e didattico de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,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D931-B855-4012-9431-47D2B6B54A8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7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novazioni e nuovi punti di riferi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40458c"/>
                </a:solidFill>
                <a:latin typeface="Tahoma"/>
              </a:rPr>
              <a:t>innovazioni strutturali dei regolamenti di riordino del primo e del secondo ciclo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60080" indent="-460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autonomia e flessibilit</a:t>
            </a:r>
            <a:r>
              <a:rPr b="0" lang="it-IT" sz="26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quadro europeo delle qualifich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dipartimenti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itato tecnico-scientif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ufficio tecn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petenze, abilità, conoscenz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laboratori e laboratorialit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segnamento in lingua straniera di una disciplina non linguistica (CLI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tegrazion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88DD-D510-4A5A-AC1D-5C109003052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Un punto chiave dei nuovi ordinamenti: la quota di autonomia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84240" y="2020680"/>
            <a:ext cx="7556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500" spc="-1" strike="noStrike">
                <a:solidFill>
                  <a:srgbClr val="40458c"/>
                </a:solidFill>
                <a:latin typeface="Tahoma"/>
              </a:rPr>
              <a:t>le origin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M n. 234 del 26.06.2000 (regol. art. 8 DPR 275/99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Quota nazionale e quota riservata alle istituzioni scolastiche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85% quota nazionale obbligator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15% quota riservata alle scuole da utilizzare per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uove discipline;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personalizzazione dei curricoli; valorizzazione del merito, potenziamento, sostegno e recupero nelle difficol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i apprendimento; laboratori, educazioni)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3CFF-65F5-4D86-B8AB-A6E36E62C20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quota di autonom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la continu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DM 28 dic 2005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Ministro Moratt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80% quota nazionale obbligatoria (solo per II Ciclo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20% quota riservata alle scuol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disposizioni estese anche al 1° Ciclo dal 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Decreto Ministeriale n. 47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del 13 giugno 2006 (Ministro Fioron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'orario annuale obbligatorio delle lezioni nella scuola secondaria di I grado e' di complessive 990 ore, corrispondente a 29 ore settimanali, piu' 33 ore annuali da destinare ad attivita' di approfondimento riferita agli insegnamenti di materie letterari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93E4-B6C1-4FEF-8C6E-6D88566E612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46:55Z</dcterms:created>
  <dc:creator> </dc:creator>
  <dc:description/>
  <cp:keywords/>
  <dc:language>en-US</dc:language>
  <cp:lastModifiedBy>Valued Acer Customer</cp:lastModifiedBy>
  <dcterms:modified xsi:type="dcterms:W3CDTF">2014-03-19T22:47:06Z</dcterms:modified>
  <cp:revision>27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0</vt:lpwstr>
  </property>
</Properties>
</file>