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339-8FFB-4DA9-A4CB-0376E111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65E-8673-4C15-AC99-4DE157A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F30-672F-4308-8646-4D735399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8E5-75B7-4540-B815-C9CCB321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A08-D00E-437D-A510-EE11C6A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8FE-C306-427D-9485-A1D2A92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6AA-3D1A-4DA0-81A7-2750A416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6B5-9EB4-4610-8704-E2152F05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198-2D79-42D9-A60A-CF6BCF2B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A05-4C31-434B-BBF7-04F67462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991-A962-46A9-906C-022C48B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A44-303A-4952-ABC8-532A836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0365-7638-456C-80AE-2DD46828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AS – Università di Pisa</a:t>
            </a:r>
            <a:br>
              <a:rPr sz="4800"/>
            </a:b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LA VALUTAZIONE </a:t>
            </a:r>
            <a:br>
              <a:rPr sz="4800"/>
            </a:br>
            <a:r>
              <a:rPr b="1" i="1" lang="it-IT" sz="4800" spc="-1" strike="noStrike">
                <a:solidFill>
                  <a:srgbClr val="333399"/>
                </a:solidFill>
                <a:latin typeface="Arial"/>
              </a:rPr>
              <a:t>DELLE SCUOLE:</a:t>
            </a: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tra valutazione esterna </a:t>
            </a:r>
            <a:br>
              <a:rPr sz="4800"/>
            </a:br>
            <a:r>
              <a:rPr b="1" lang="it-IT" sz="4800" spc="-1" strike="noStrike">
                <a:solidFill>
                  <a:srgbClr val="333399"/>
                </a:solidFill>
                <a:latin typeface="Arial"/>
              </a:rPr>
              <a:t>e valutazione interna</a:t>
            </a:r>
            <a:br>
              <a:rPr sz="4800"/>
            </a:b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vide Capperuc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dei processi valutativi 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993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dro di riferimen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i processi valutativ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le scu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sto e ris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atiche educative e didatti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zionamento organizz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si della valutazione estern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 della vis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nte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ccomandazione del Parlamento europeo e del Consigli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12 febbraio 2001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a valutazione della qualità dell’insegnament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iluppar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tazione este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 scopo di fornire un sostegno metodologico all'autovalutazione e fornire un'analisi esterna della scuola che incentivi un processo costante di miglioramento facendo attenzione a non limitarsi al solo controllo amminist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aggiare l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parte degli istituti scolastici come metodo per fare delle scuole un luogo di apprendimento e di perfezionamento, associando con equilibrio autovalutazione e valutazione es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o la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iettivi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 – Rapporto di 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8686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ano di miglior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i da perseg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rile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att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zioni intra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ultati conseguiti (il più possibile misur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ializzazione esiti PdM con comunità scolastica 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valutazi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leci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ascuna scuola ad interrogarsi sulla qualità del servizio offerto al fine di migliorarl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er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e scuole di compiere scelte autonome dovrebbe infatti essere sempre connessa al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abilit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intraprendere processi di miglioramento e di qualificazione del servi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valu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an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i di autoanalis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vorendo in tal modo l’apprendimento organizzativo - e costruendo quindi un sistema che stabilisc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ssioni tra la valutazione esterna e quella inte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è possibi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scare processi di miglior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esto modo la valutazione può realmente diventare uno strumento efficace per la gestione strategica dell’istituzione scolastica st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utazione esterna/Autovalutazio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Miglio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/Valutazione in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 Autovalut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886200"/>
            <a:ext cx="0" cy="108756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olamento del Sistema Nazionale di Valu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Schema di Regolamento del Sistema Nazionale di Valutazione (DPR n. 80/’13), in materia 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ruzione e formazione approvato a marzo 2013 ha sancito la rilevanza del rapporto 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sterna e auto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zione e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etti sperimentali per la valutazione delle sc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fr. Invalsi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Linee guida per i valutatori esterni del progetto Vales e Valutazione e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201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getto V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etto Valutazione e Miglioramento (V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1112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7:16:22Z</dcterms:created>
  <dc:creator>Preside</dc:creator>
  <dc:description/>
  <dc:language>en-US</dc:language>
  <cp:lastModifiedBy>x</cp:lastModifiedBy>
  <dcterms:modified xsi:type="dcterms:W3CDTF">2014-03-20T20:52:37Z</dcterms:modified>
  <cp:revision>8</cp:revision>
  <dc:subject/>
  <dc:title>PAS – Università di Pisa  LA VALUTAZIONE  DELLE SCUOLE:  tra valutazione esterna  e valutazione interna  Davide Capperucci</dc:title>
</cp:coreProperties>
</file>