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334-E90D-4511-BA62-C6649747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792-C0A1-49D6-9F6C-869FCEC5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C90-7973-4477-AAC0-1C6A8A73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5D1-815D-45FF-A868-4DA17D9A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B19-90CA-4394-9009-7145E149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FA4-28F5-4708-A64F-93D8CC8F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64C-AEC6-4C7E-89FC-372720C8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9E2-C4C0-4601-999D-723CF17F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2A3-BF67-4F66-8C7B-FA95426F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492-A97B-47A9-9D5B-8EBF48C7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97B-3907-4DFD-BE62-78C01BAD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3B4-2D05-47DF-8E7B-A1D2B73A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4B46-6302-4B21-A3FA-664F16499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69608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PAS – Università di Pisa</a:t>
            </a:r>
            <a:br>
              <a:rPr sz="4800"/>
            </a:br>
            <a:br>
              <a:rPr sz="4800"/>
            </a:b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LA VALUTAZIONE </a:t>
            </a:r>
            <a:br>
              <a:rPr sz="4800"/>
            </a:b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DELLE SCUOLE:</a:t>
            </a: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800"/>
            </a:b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tra valutazione esterna </a:t>
            </a:r>
            <a:br>
              <a:rPr sz="4800"/>
            </a:b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e valutazione interna</a:t>
            </a:r>
            <a:br>
              <a:rPr sz="4800"/>
            </a:b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Davide Capperuc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o di riferimento dei processi valutativi delle scu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7993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o di riferimen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i processi valutativ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le scu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sto e ris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739880"/>
            <a:ext cx="82296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atiche educative e didatt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915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atiche educative e didatt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839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unzionamento organizza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10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si della valutazione estern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 della vis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 la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ccomandazione del Parlamento europeo e del Consigli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 12 febbraio 2001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la valutazione della qualità dell’insegnament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iluppare 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tazione ester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 scopo di fornire un sostegno metodologico all'autovalutazione e fornire un'analisi esterna della scuola che incentivi un processo costante di miglioramento facendo attenzione a non limitarsi al solo controllo amministrat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aggiare l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valutazi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parte degli istituti scolastici come metodo per fare delle scuole un luogo di apprendimento e di perfezionamento, associando con equilibrio autovalutazione e valutazione es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o la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iettivi di miglio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 – Rapporto di 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1616040"/>
            <a:ext cx="8686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ano di miglio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biettivi da perseg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rile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att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zioni intrap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conseguiti (il più possibile misurabi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cializzazione esiti PdM con comunità scolastica e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valutazi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leci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ascuna scuola ad interrogarsi sulla qualità del servizio offerto al fine di migliorarl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er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le scuole di compiere scelte autonome dovrebbe infatti essere sempre connessa al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abili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intraprendere processi di miglioramento e di qualificazione del serviz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van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orsi di autoanali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vorendo in tal modo l’apprendimento organizzativo - e costruendo quindi un sistema che stabilisc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ssioni tra la valutazione esterna e quella inte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è possibi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scare processi di migliora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questo modo la valutazione può realmente diventare uno strumento efficace per la gestione strategica dell’istituzione scolastica st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utazione esterna/Autovalutazio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Miglior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sterna/Valutazione in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 Autovaluta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3886200"/>
            <a:ext cx="0" cy="108756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olamento del Sistema Nazionale di Valu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Schema di Regolamento del Sistema Nazionale di Valutazione (DPR n. 80/’13), in materia d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uzione e formazione approvato a marzo 2013 ha sancito la rilevanza del rapporto 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sterna e autovalu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 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etti sperimentali per la valutazione delle scu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o V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o Valutazione e Miglioramento (V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Cfr. Invalsi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Linee guida per i valutatori esterni del progetto Vales e Valutazione e miglior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20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ogetto V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etto Valutazione e Miglioramento (V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11125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7:16:22Z</dcterms:created>
  <dc:creator>Preside</dc:creator>
  <dc:description/>
  <dc:language>en-US</dc:language>
  <cp:lastModifiedBy>x</cp:lastModifiedBy>
  <dcterms:modified xsi:type="dcterms:W3CDTF">2014-03-20T20:52:37Z</dcterms:modified>
  <cp:revision>8</cp:revision>
  <dc:subject/>
  <dc:title>PAS – Università di Pisa  LA VALUTAZIONE  DELLE SCUOLE:  tra valutazione esterna  e valutazione interna  Davide Capperucci</dc:title>
</cp:coreProperties>
</file>