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BCEB-ED87-4D7F-A296-5103EF3C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455-813B-487A-A849-9BF879E7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83C2-8376-4F49-B9F8-DF7F3E92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86FE-B650-49DE-82B6-45E2A739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3F11-68E9-4390-B261-80F9A5B5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DE0-7878-4014-9904-59961FFA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292-0A66-48C0-8268-D7FF21BB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0073-A82B-4AAF-9B84-AA95D0D9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B6B0-061A-46A4-B06A-DC883916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503B-4CE0-4A65-BD94-829FBF59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2C3-603B-4AEB-BFB9-4FF82652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E3E-6B8B-4621-867D-308F1DB8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3FE8-479D-49CA-889B-437B8936A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69608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PAS – Università di Pisa</a:t>
            </a:r>
            <a:br>
              <a:rPr sz="4800"/>
            </a:br>
            <a:br>
              <a:rPr sz="4800"/>
            </a:br>
            <a:r>
              <a:rPr b="1" i="1" lang="it-IT" sz="4800" spc="-1" strike="noStrike">
                <a:solidFill>
                  <a:srgbClr val="333399"/>
                </a:solidFill>
                <a:latin typeface="Arial"/>
              </a:rPr>
              <a:t>LA VALUTAZIONE </a:t>
            </a:r>
            <a:br>
              <a:rPr sz="4800"/>
            </a:br>
            <a:r>
              <a:rPr b="1" i="1" lang="it-IT" sz="4800" spc="-1" strike="noStrike">
                <a:solidFill>
                  <a:srgbClr val="333399"/>
                </a:solidFill>
                <a:latin typeface="Arial"/>
              </a:rPr>
              <a:t>DELLE SCUOLE:</a:t>
            </a:r>
            <a:r>
              <a:rPr b="1" lang="it-IT" sz="4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800"/>
            </a:br>
            <a:r>
              <a:rPr b="1" lang="it-IT" sz="4800" spc="-1" strike="noStrike">
                <a:solidFill>
                  <a:srgbClr val="333399"/>
                </a:solidFill>
                <a:latin typeface="Arial"/>
              </a:rPr>
              <a:t>tra valutazione esterna </a:t>
            </a:r>
            <a:br>
              <a:rPr sz="4800"/>
            </a:br>
            <a:r>
              <a:rPr b="1" lang="it-IT" sz="4800" spc="-1" strike="noStrike">
                <a:solidFill>
                  <a:srgbClr val="333399"/>
                </a:solidFill>
                <a:latin typeface="Arial"/>
              </a:rPr>
              <a:t>e valutazione interna</a:t>
            </a:r>
            <a:br>
              <a:rPr sz="4800"/>
            </a:br>
            <a:br>
              <a:rPr sz="4000"/>
            </a:b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Davide Capperuc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dro di riferimento dei processi valutativi delle scu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7993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dro di riferimen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i processi valutativi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le scu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sult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39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763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sto e riso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739880"/>
            <a:ext cx="82296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atiche educative e didatti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915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atiche educative e didatti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8390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unzionamento organizza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10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si della valutazione esterna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 della vis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nte la vi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ccomandazione del Parlamento europeo e del Consigli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 12 febbraio 2001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la valutazione della qualità dell’insegnamento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iluppare 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tazione ester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 scopo di fornire un sostegno metodologico all'autovalutazione e fornire un'analisi esterna della scuola che incentivi un processo costante di miglioramento facendo attenzione a non limitarsi al solo controllo amministrati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aggiare l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valutazi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parte degli istituti scolastici come metodo per fare delle scuole un luogo di apprendimento e di perfezionamento, associando con equilibrio autovalutazione e valutazione es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o la vi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iettivi di miglior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V – Rapporto di 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8600" y="1616040"/>
            <a:ext cx="86868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iano di miglior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biettivi da persegu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rile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att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zioni intrapr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conseguiti (il più possibile misurabi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cializzazione esiti PdM con comunità scolastica e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o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valutazi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lecit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ascuna scuola ad interrogarsi sulla qualità del servizio offerto al fine di migliorarlo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ert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le scuole di compiere scelte autonome dovrebbe infatti essere sempre connessa all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sabilit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intraprendere processi di miglioramento e di qualificazione del serviz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o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van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orsi di autoanali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vorendo in tal modo l’apprendimento organizzativo - e costruendo quindi un sistema che stabilisc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ssioni tra la valutazione esterna e quella inter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è possibi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scare processi di migliorame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questo modo la valutazione può realmente diventare uno strumento efficace per la gestione strategica dell’istituzione scolastica ste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utazione esterna/Autovalutazio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Miglior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zione esterna/Valutazione inte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 Autovalutazi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li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3886200"/>
            <a:ext cx="0" cy="108756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golamento del Sistema Nazionale di Valut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 Schema di Regolamento del Sistema Nazionale di Valutazione (DPR n. 80/’13), in materia d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uzione e formazione approvato a marzo 2013 ha sancito la rilevanza del rapporto t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zione esterna e autovalu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zione e migli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etti sperimentali per la valutazione delle scu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3818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getto V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getto Valutazione e Miglioramento (V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Cfr. Invalsi,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Linee guida per i valutatori esterni del progetto Vales e Valutazione e migliorame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201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rogetto V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etto Valutazione e Miglioramento (V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11125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7:16:22Z</dcterms:created>
  <dc:creator>Preside</dc:creator>
  <dc:description/>
  <dc:language>en-US</dc:language>
  <cp:lastModifiedBy>x</cp:lastModifiedBy>
  <dcterms:modified xsi:type="dcterms:W3CDTF">2014-03-20T20:52:37Z</dcterms:modified>
  <cp:revision>8</cp:revision>
  <dc:subject/>
  <dc:title>PAS – Università di Pisa  LA VALUTAZIONE  DELLE SCUOLE:  tra valutazione esterna  e valutazione interna  Davide Capperucci</dc:title>
</cp:coreProperties>
</file>