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CF5-6999-4D8F-A643-69EB741F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C72-394A-4E8B-967F-FE5C3D4C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633-446A-4EEC-BB88-4D22A726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480-A9AD-4F1C-BD7D-87515174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B0F-59EA-4684-BE4C-4F9703C1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039-CB31-4D17-9A6B-65F375CF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2B7-BE4B-493C-AA1A-72A2574E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277-DE79-4E4B-9D31-A10BF409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2FF-7FE2-4C1A-891E-30DC076D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8DE-B775-4972-BFAE-7D0BD7D6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623-5EBB-4A41-97E2-A3F551B5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8FE-5925-4B65-888D-68F05ECB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240F-A89B-4226-AF52-D6479EB45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69608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PAS – Università di Pisa</a:t>
            </a:r>
            <a:br>
              <a:rPr sz="4800"/>
            </a:b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LA VALUTAZIONE </a:t>
            </a: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DELLE SCUOLE:</a:t>
            </a: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tra valutazione esterna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e valutazione interna</a:t>
            </a:r>
            <a:br>
              <a:rPr sz="4800"/>
            </a:b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avide Capperuc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dei processi valutativi 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993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i processi valutativ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sto e ris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39880"/>
            <a:ext cx="82296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915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nzionamento organizza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i della valutazione estern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 della vis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ccomandazione del Parlamento europeo e del Consigli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 12 febbraio 2001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la valutazione della qualità dell’insegnamen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iluppare 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tazione ester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 scopo di fornire un sostegno metodologico all'autovalutazione e fornire un'analisi esterna della scuola che incentivi un processo costante di miglioramento facendo attenzione a non limitarsi al solo controllo amministrat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aggiare l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parte degli istituti scolastici come metodo per fare delle scuole un luogo di apprendimento e di perfezionamento, associando con equilibrio autovalutazione e valutazione es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o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iettivi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 – Rapporto di 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616040"/>
            <a:ext cx="8686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ano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biettivi da perseg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rile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at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zioni intrap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conseguiti (il più possibile misurabi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ializzazione esiti PdM con comunità scolastica e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leci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ascuna scuola ad interrogarsi sulla qualità del servizio offerto al fine di migliorarl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er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le scuole di compiere scelte autonome dovrebbe infatti essere sempre connessa al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abili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intraprendere processi di miglioramento e di qualificazione del serviz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van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i di autoanali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vorendo in tal modo l’apprendimento organizzativo - e costruendo quindi un sistema che stabilisc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ssioni tra la valutazione esterna e quella inte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è possib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scare processi di miglior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esto modo la valutazione può realmente diventare uno strumento efficace per la gestione strategica dell’istituzione scolastica st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utazione esterna/Autovalutazio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Miglior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/Valutazione in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 Autovalut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3886200"/>
            <a:ext cx="0" cy="108756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olamento del Sistema Nazionale di Valu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Schema di Regolamento del Sistema Nazionale di Valutazione (DPR n. 80/’13), in materia d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uzione e formazione approvato a marzo 2013 ha sancito la rilevanza del rapporto 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 e autovalu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 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etti sperimentali per la valutazione delle scu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fr. Invalsi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inee guida per i valutatori esterni del progetto Vales e Valutazione e miglior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20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11125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16:22Z</dcterms:created>
  <dc:creator>Preside</dc:creator>
  <dc:description/>
  <dc:language>en-US</dc:language>
  <cp:lastModifiedBy>x</cp:lastModifiedBy>
  <dcterms:modified xsi:type="dcterms:W3CDTF">2014-03-20T20:52:37Z</dcterms:modified>
  <cp:revision>8</cp:revision>
  <dc:subject/>
  <dc:title>PAS – Università di Pisa  LA VALUTAZIONE  DELLE SCUOLE:  tra valutazione esterna  e valutazione interna  Davide Capperucci</dc:title>
</cp:coreProperties>
</file>